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BF3A-2D29-4956-9A78-64919DD1E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E917-ADA3-4093-B109-4EAFA238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95455-F735-4AAF-A244-67616A5D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FCBF0-8A4A-496B-BC9F-A1A8555C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B6135-C125-499F-80CE-7B5E0212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E30A4-1416-4658-9F1B-6A3AB754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04390-3741-4F2F-B108-8725395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DCCF7D-1280-4DA9-8165-6FCB46A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E6E45-8381-4D76-937B-ACF4B92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45336A-632E-42F2-9A46-C85059E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AFAA6-7C5D-46CC-B557-A15299DFE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E042-C34B-489B-85FF-EDE774C6B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E5E9-3170-4A1B-8CC2-F416479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B92D-53EB-49B6-9D57-8BEC373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274C-FC60-46B2-857E-52CDDA3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123D-64CE-4827-9D92-0871284E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2F77-10A7-4F45-9942-F4C50593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0CB22-5C47-4DBD-866F-A5880800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EDF7-A568-4C03-881B-E536C99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B6241-5497-459B-87A1-F2369E9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2293-145C-4F46-BE41-7B1525B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9E81-93ED-4368-81AF-AD5E41CF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E3C05-A0F5-4580-8D79-25F0C0E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E2F8-0057-4B23-946C-3E81F8098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351F-ACB3-40D6-B743-6E9291012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293AE0-6FB9-449B-9B5C-82122DC9B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A933E3-6157-4A16-AE4C-8A6DA9E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6AAAB-56CA-4348-BD78-DFBAAF3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45E341-A26E-4A4F-A342-7E575D4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3B8D1-C721-4A7F-9925-7B7E4E53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69474-B98B-4970-9576-EE19E45A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78ED5-CEDB-4AAC-A449-B68DEBC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400FC-2E9A-476C-82FA-1683DB9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D6C2E-4F47-442F-8A90-10DF639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F2E35-B40C-4D2E-BAE8-D761570A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5A9558-A7EA-4B7F-A075-1880DAC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BCBC5-39F6-4880-957A-8745AAB3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4CAC0-9387-4A29-8784-3F3979377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FC1B6-E564-4F3D-9421-E0CBD0FB9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6218-0254-4D23-B951-07BDDBC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5F6AA-71EC-46C5-9A5E-0B53100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CC30C-8CC4-4AA3-A9CA-9F6A2108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09045-9EC0-4804-BA6B-84AE6E4A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6701D-1165-4746-A6DB-1B5380FE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E0399-E624-42D6-8CD1-77D2F07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D6508-123D-4E1F-9123-2AD5F58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C712F-A577-418C-8E32-6EE05EF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48B21-4E9C-43EE-BDF5-6CB44E2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617A8-D9D8-47A1-B722-C312C74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9FD09-5DEE-4D81-8630-8DB4E37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485BD-A9BF-471B-AE4A-28590DBAE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66BB1-5B01-4C21-9392-733B56090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0CB7E-E766-43C3-9BCF-6EE7BE0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5F8C-7B4D-4B35-B0E0-A5455E10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95EC-A289-4B04-BCEE-7516B756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572AC-7380-4DEB-8EB3-CEB20837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767A0-8A28-4192-A902-D093B3F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24C77-30DD-4F7B-8265-EA9E3FF2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F607C-66F2-489E-8A9F-FE12080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AB6B-4016-4B82-9ED0-AA2645D7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492CB-0BC9-4339-9EFE-07B2E75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4EE38-71EB-4D94-AD93-A98C7EE7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28B6D-5E95-4B1E-9FC4-05AD7ED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4DD9-177B-44CF-A66F-0386A5765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EAE6A-C7A9-4DBC-997F-248B3C03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6D662-F582-445D-877E-FC95ADE6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AE6D1-FE90-4C26-BEAE-FB87AC9A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19A28-F6CC-4CBE-B4A0-20C371CF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6C80B-2CE5-48F1-B179-2E5258A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737CA-4BA9-47D2-B006-AEB4990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891CC-2E7F-4413-9C67-330A31E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D391D-1000-4970-9790-A1533C3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7D363-AD67-4F46-8B70-FF451ED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79978-410B-4274-80C4-A01C5DE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ED034-4E3A-4DE7-AB7D-041D7ED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47C3A-8283-4558-8B71-0B54DAE4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AC9E4-0EA2-40FE-ACC7-FECB61DB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7A12C-DD25-4221-8A7B-E75EF7D2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52975-659E-4A4C-A275-60604ABE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F1C2C-AE8C-4ECC-B69D-5CE510DC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8AF35-D643-4712-BD6C-36AA961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274A-07C6-4DA8-837E-1ED913C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D83D-5131-486D-8162-8A9FBCB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9302-31AB-461C-BCD3-59A3ACF5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B5617-C5A2-4F98-8157-6942795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CE756-2490-4F29-8C09-FB5FD11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0B1D-BFB3-46B6-A82A-D74B8DD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3F39E-EEE1-49DF-A538-28860833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A29D-28A0-4742-990B-83648470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30156-CCAC-43A5-B8A7-D3CA045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449D-60A2-4CDB-998F-36FDE108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1914-76CC-4287-A745-6456B07C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0D3D9-5C60-48F7-8503-74093C17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ADEED-BE27-4372-8B28-A40AC4E4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141BB-BB0D-40E9-8A25-C683E10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3BE1B-372C-490E-A68E-341CA67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4DCFC-69E3-4259-A458-80DA51E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0DB8D-2E1E-4AC1-B9BE-C89059F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84605-FB86-45C6-BD2E-7626178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2179-5059-4464-8926-9C84255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78FA-34F0-4259-8986-2727B44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25316-9D64-4BFA-8DD7-640991A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42A50-AE51-4168-8725-0A6DF09B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7FDF0-38F3-4713-9803-8679EAD9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0A664-CCAA-49EE-9364-4D3B8D16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EDB44-5430-454E-8112-1C63C6D6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B61B6-B245-4002-A44F-ABD9E200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2A926-EC88-4AA9-8CAA-AE530C6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CF2B3-4C95-4F94-9E94-78EDF59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8CD16-9A44-4E60-8AEC-DED605A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0792D-6E8D-456D-9233-0EE6EB1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4CFB-507E-46E7-B55A-7E9FEDF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28FC-ADB6-47BC-983C-3799E1B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10D06-6C6D-4CA6-9A14-E5F16C7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E826A-4AF9-4596-9DF8-1F18970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28BDC-0F31-4C53-83D7-B670547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FCE3D-2C99-4698-A6F7-0603376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01F15-F2D8-4E8E-A37D-26D147F6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2AC95-B8E2-499A-AB7B-9CDF85E2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59DE8-DC8D-4EE9-8E92-E98CE9D8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47730-47E6-4D88-BCBD-1DEC851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37499-01B4-4C78-8EB8-2F4148C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F6C48-FC9B-4B77-A501-4280E53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C8D45-D4B1-4F6B-9289-C2F0A67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C4041-DB50-4ADF-B8B2-E8D0099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AF4AF-88DF-454D-9AEA-C952367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EE7A7-3083-40B9-BC3A-F3D5AF3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68FB6-5AAB-4ACF-BFAC-D8F4B49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4406D-4918-4708-B21A-2B91F03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5244F-E720-4A14-B507-A26CA160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062E5-1C54-4C00-B097-BFFEB088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6BB38-26AA-43D6-8FE5-CD488715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9E919-1F86-49E4-B9E9-7EC46D6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33602-CBB0-40CF-867D-1072E37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A308-1A46-408B-8B86-B4B3929F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8CACC-A458-4ED0-96DA-E895489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A0790-B2FF-4C61-804E-ACA49A7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2648B-9D1D-43EB-B8AC-FF23B2F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D82B3-D589-4906-B320-D38736A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5039D-5648-4FBD-91B7-BF35659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27FEE-F720-46E9-9446-587AE5C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2D438-9EA3-4F54-8665-D34996A7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23266-FD2B-4EEF-AB9D-7AF9A37F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B5D88-A949-418B-B248-004F6EB9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E76B1-92CA-490F-B744-5BEF300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E95ED-1646-489E-A1EC-6B8B8438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0F391-EBE0-41B3-8EE1-DB0A3946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A1EEC-F354-4D54-A31B-829B98E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5BFE4-33DC-4149-BA69-5FF0B26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30AA7-15C3-43C8-BFDE-24E44880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AA385-D7E1-406F-89FE-1066615E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B2CEF-FCC6-4540-8AF3-706859D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25C8B-AAB1-4487-A12D-1260D95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75BF1-65AA-4832-902A-BF0A733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9B25C-290F-4F98-9660-4C78AA6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BEBE5-2480-47CC-8A68-208C8D3F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9E19C-1795-456C-A718-A7295F17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44B89-6130-4E6B-A8A8-23707183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FA42E-C98B-4FA3-838D-8EBE0DA2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6F9F4-4AA1-44C4-8A26-81BB395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81921-0A98-4660-B205-AED61F3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BA08A-A4B5-48F4-8DF0-21682064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51B31-9516-4035-A17D-53BFDB8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28368-BE85-4E78-8F44-FC7348A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6E0B2-92F2-44D6-A4CC-E4D79CA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A4F73-0158-4492-A48D-B47D9E1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092A8-3740-4418-A19D-7B46F7AC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BE099-7948-4E7C-A712-3368C795B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23A86-017A-4FFB-908D-40FECF6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9054E-A552-48B5-85FE-BD60B2D4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48458-B836-48CC-B465-7775D9E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15F56-63EA-44F8-91A2-278B60EC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26E6D3-7FA1-4F41-9EF6-D229688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6D61D-723A-4CBB-8EA6-73AA18F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A47C3-C768-45E7-B86F-6008370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52486-159D-4ED8-8917-954DFDB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BCCAA-2AFE-49B4-B384-6636158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C3E10-6F09-4967-8D19-D144B07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8BF08-64AC-4314-B131-8764D53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5A28D-5DD4-4DAB-870C-977EC3B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3A87B-DA9C-43C5-AF96-AFB5F14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A4321-52CE-4A49-9860-A2928B4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52C5B-98BA-4B4B-9795-3A8BE114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D2327-8BDA-466B-A30F-70858CEC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5BCB3-1195-4240-B7C4-B1634B05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DBECC-6349-4633-97F8-B882932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288FA-317E-4007-A0E3-0B610AD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7C246-0650-435A-9FCF-C196DE1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215CD-67B0-4367-B10A-5BF1943C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421B0-3AB1-4BA0-BD08-DEA9AF7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0F6CE-51A8-438C-A552-4410077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CD849-7F53-4FF3-A4DA-915B267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F4ABD-DC8C-4ADC-9B9D-01F75A2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4B2B9-9EED-4A84-BBF9-BC35A6B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386E6-6204-44B5-BCE0-1197146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D85F6-8438-44A0-966F-782A51E5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5CC1B-EB70-4A28-94B4-3B35208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87B87-F1B6-4BE1-88B6-0A6F209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0D0A0-AE12-46AB-B6C3-279F8AC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F31B8-A88C-42E0-AFA1-A15A275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49F4E-4774-4114-BF67-D1077600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23CEC-4CF7-4AE9-B614-95719AA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926EC-7C50-4AAA-A0C7-4B05754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FE5E2-F6C0-4302-A3F7-7A320A6E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0E6C4-D748-4B54-B699-E759718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133AC-C26B-442B-B9AB-A74E01B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F5F99-E689-44FD-B5A5-A7D278E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B0C48-9899-4665-97E2-CDBE519F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CA42B-FC70-4A0A-BE5E-080C094D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8B766-E36F-4F89-ACC7-FF9FBF2D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B833D-1CF9-47FF-A97F-C284AF9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F81E-7804-4004-A5D4-F52D32C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5361F-5655-46A5-9106-B1869C80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13316-6EEC-495D-AF30-057DB1E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3941-5D3D-4349-92F9-2A58AB9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FC8D9-2496-4E9E-8AA8-57233401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909D0-7C93-4236-8C8F-6620552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DA440-EA0C-4FA3-AE6C-063E760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E9966-A400-4950-9BC6-C3E967EB0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8FB1-D916-409D-9E54-CEEED956B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05C2-8D30-4C07-A2AC-0B0B9C5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CD14-E9AA-47E6-B0CB-CCE3A478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1BF2-6577-45D4-A5EE-0D533003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EB9D-0FB9-4649-A122-8436FDC9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6939-4259-4F87-86D6-7FA9D5DD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F51D-CA56-46AD-A807-58132707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6478-D731-4269-8505-B782AEA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3C96-AFC9-4017-BE95-87891E5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C063-EEDA-46AB-AD2B-EA1E35C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EF94-274C-458D-B40E-23A2CE0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0AA6-6EC1-41F5-AE7B-A0FEC85E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27B9-5070-43E2-91FB-270509B9B9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38C35-38B1-4637-8574-0193D3C6A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05DF-1665-414F-BAD1-335135F2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62F47-39F5-41F4-8629-46CE2CC7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5081C-1020-4F74-9900-DAF330F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F219B-81F1-4CAA-AC46-600D05E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6D555-5BCE-4F90-BBFE-D76AE812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87486-56BE-48B4-AEC0-AB0D7067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80DFA-1FE3-4F91-9E50-513C2C5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3F428-E3B1-489D-AB1B-6CAA2AA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2BB54-2277-4248-88E3-CCF7F54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027B6-CE0F-40A0-B809-4816055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8A342-B06F-4C26-90CE-4557174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C173-9F6E-4391-8B3E-25A16DC7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FE10A-1356-4272-9C2E-717C3507D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167DD-EB40-4C20-8745-261EE0D2F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68E33-13F8-4A62-8E0F-5EA16FE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24CF1-B104-4B9B-AB48-3A5954D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41F01-0278-43F9-A863-FDBE0EFB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EC3AD-5E8F-4B15-B03C-7CC8CEF2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11D779-1C17-4B18-A86A-C77D9198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D40E7-7D7C-4EDE-94B3-B3EB09E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2C2EB-B4E7-4142-ABA8-D4FE6D2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6AFB4-830A-401A-80FD-02B9DFA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12AA-34FE-40AA-BA6E-02940A4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3C27AF-33A1-4F7D-8B39-056137A0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609D9-5285-4C28-B388-F7CD00C9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F2773-A3D4-4A5E-A3EF-8E5FFB7C8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CD3A-1E0D-431E-8E7C-DC32FF46B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30D0-2AB3-40A8-97C5-6F705F2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1AFE-3A4B-4BBE-B095-5171D5C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4D2D-0340-4774-92AF-D671B0C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C7F8-10C0-478C-8B22-7C4E183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1236-2B94-4B59-9718-91E1CF37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AEF4-3CC1-451A-93C2-1C56B45E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7B20-8432-4D51-9A62-6FAD4536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1170-B53E-4360-B847-43EC42C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BE9F-7613-4D36-9774-B6FFB42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0DA1-1A52-4F4B-B30B-FAE2F9E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ED52-C062-4109-BEDA-FDA07FF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0635-DCE7-445C-9F11-E48689EDB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39D21-B3AA-4BD1-B6F7-EF219A643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F9B2B-17F2-4A09-8BB3-505702C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85E39-0DF0-4E75-AF85-55CAE143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7F8FB-DAC3-4D63-9306-78C9AE56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C8C6C-5C17-4744-8340-991DB3E2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58C3-65AD-4A9A-A607-6E3AC25E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FB0BC-F1D2-42B8-9403-86259056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AC672-DFC1-4F76-880D-577AFC5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2E989-4FD2-42BA-A1FC-75E312B9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C0E62-2CB9-4C46-A72E-99F022CB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A7650-33B9-434E-B369-8A671DF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CDC77-AFCF-44F2-9988-27D3B60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0069E-78FA-4721-AEF6-70C48C6D93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FB62A5-7D3C-4044-B96B-9A7735ED1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CD8AD-03F9-4FFC-993B-2F88C6E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D77EC-F437-4170-B9A9-80DCCE0C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223-7E93-4A0A-8168-F157268BF1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81FB-4A4C-4697-8754-3561DDC490D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2F3-824C-41A0-A963-4D317A9FA9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006-C509-4380-9B8A-FD314EF91B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AAFA-1B90-4E4B-A344-F8C0C46C11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7FCF-D5F5-4009-ABF2-69D588F50D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4E4E-DF26-44B5-B113-1726621BE8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D3F8-FD01-4A11-BAE1-4A1D0B5168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811B-63CB-45DB-AC39-22EB6847D8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FA7-544F-43B2-8CAD-AFA2C93544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4CE3-4803-4C48-9ECF-E2B54CE5A9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554-0885-474D-8498-CEB3B2E67C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F0CC-8EC1-4FD2-9CC5-9BFB8C7037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0852-5BC6-4C12-9FF8-FEC82241FB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DDA-D0F5-46CA-9458-8D84D10C3D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D1AA-4ABD-4784-9ADA-8504DD3BC9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25C-EA58-47DD-AE5C-5BEB0DE5F8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FB7C-76DC-4B1A-8D85-41FB1CDCB9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8F22-9939-4D10-9455-C5A1946926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8B6-EA8E-46A7-8317-5951702015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C033-501E-4A7A-B23A-66FC39ED88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A6DD-7CDA-4D3E-A71D-7455FB1201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B19-99BB-4049-8A28-F99520E623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1F7-8794-46A5-A3BA-C3C2943FF4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157480" y="26272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584360" y="2610000"/>
            <a:ext cx="59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6"/>
          <p:cNvSpPr/>
          <p:nvPr/>
        </p:nvSpPr>
        <p:spPr>
          <a:xfrm>
            <a:off x="387360" y="700200"/>
            <a:ext cx="4861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8"/>
          <p:cNvSpPr/>
          <p:nvPr/>
        </p:nvSpPr>
        <p:spPr>
          <a:xfrm>
            <a:off x="558720" y="1316160"/>
            <a:ext cx="7745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把一个蛋糕平均分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   ）分之一，写作（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母是（    ），分子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9"/>
          <p:cNvSpPr/>
          <p:nvPr/>
        </p:nvSpPr>
        <p:spPr>
          <a:xfrm>
            <a:off x="752400" y="2819520"/>
            <a:ext cx="7553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把一个圆平均分成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  ）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是它的（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10"/>
          <p:cNvSpPr/>
          <p:nvPr/>
        </p:nvSpPr>
        <p:spPr>
          <a:xfrm>
            <a:off x="752400" y="3873600"/>
            <a:ext cx="1532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32"/>
          <p:cNvGrpSpPr/>
          <p:nvPr/>
        </p:nvGrpSpPr>
        <p:grpSpPr>
          <a:xfrm>
            <a:off x="2111400" y="3940200"/>
            <a:ext cx="623880" cy="820440"/>
            <a:chOff x="2111400" y="3940200"/>
            <a:chExt cx="623880" cy="820440"/>
          </a:xfrm>
        </p:grpSpPr>
        <p:sp>
          <p:nvSpPr>
            <p:cNvPr id="1003" name="Text Box 54"/>
            <p:cNvSpPr/>
            <p:nvPr/>
          </p:nvSpPr>
          <p:spPr>
            <a:xfrm>
              <a:off x="2111400" y="3940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55"/>
            <p:cNvSpPr/>
            <p:nvPr/>
          </p:nvSpPr>
          <p:spPr>
            <a:xfrm>
              <a:off x="2111400" y="43923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2284200" y="4407120"/>
              <a:ext cx="276840" cy="360"/>
              <a:chOff x="2284200" y="4407120"/>
              <a:chExt cx="276840" cy="360"/>
            </a:xfrm>
          </p:grpSpPr>
          <p:sp>
            <p:nvSpPr>
              <p:cNvPr id="1006" name="Line 56"/>
              <p:cNvSpPr/>
              <p:nvPr/>
            </p:nvSpPr>
            <p:spPr>
              <a:xfrm>
                <a:off x="2284200" y="4407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2284200" y="4407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8" name="文本框 11"/>
          <p:cNvSpPr/>
          <p:nvPr/>
        </p:nvSpPr>
        <p:spPr>
          <a:xfrm>
            <a:off x="2805120" y="4048200"/>
            <a:ext cx="14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组合 32"/>
          <p:cNvGrpSpPr/>
          <p:nvPr/>
        </p:nvGrpSpPr>
        <p:grpSpPr>
          <a:xfrm>
            <a:off x="3992400" y="3772080"/>
            <a:ext cx="623880" cy="821160"/>
            <a:chOff x="3992400" y="3772080"/>
            <a:chExt cx="623880" cy="821160"/>
          </a:xfrm>
        </p:grpSpPr>
        <p:sp>
          <p:nvSpPr>
            <p:cNvPr id="1010" name="Text Box 54"/>
            <p:cNvSpPr/>
            <p:nvPr/>
          </p:nvSpPr>
          <p:spPr>
            <a:xfrm>
              <a:off x="3992400" y="3772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55"/>
            <p:cNvSpPr/>
            <p:nvPr/>
          </p:nvSpPr>
          <p:spPr>
            <a:xfrm>
              <a:off x="3992400" y="42249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4165200" y="4239720"/>
              <a:ext cx="276840" cy="360"/>
              <a:chOff x="4165200" y="4239720"/>
              <a:chExt cx="276840" cy="360"/>
            </a:xfrm>
          </p:grpSpPr>
          <p:sp>
            <p:nvSpPr>
              <p:cNvPr id="1013" name="Line 56"/>
              <p:cNvSpPr/>
              <p:nvPr/>
            </p:nvSpPr>
            <p:spPr>
              <a:xfrm>
                <a:off x="4165200" y="4239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4165200" y="4239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文本框 20"/>
          <p:cNvSpPr/>
          <p:nvPr/>
        </p:nvSpPr>
        <p:spPr>
          <a:xfrm>
            <a:off x="4616280" y="4002120"/>
            <a:ext cx="2254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（   ）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32"/>
          <p:cNvGrpSpPr/>
          <p:nvPr/>
        </p:nvGrpSpPr>
        <p:grpSpPr>
          <a:xfrm>
            <a:off x="6532560" y="3772080"/>
            <a:ext cx="623880" cy="821160"/>
            <a:chOff x="6532560" y="3772080"/>
            <a:chExt cx="623880" cy="821160"/>
          </a:xfrm>
        </p:grpSpPr>
        <p:sp>
          <p:nvSpPr>
            <p:cNvPr id="1017" name="Text Box 54"/>
            <p:cNvSpPr/>
            <p:nvPr/>
          </p:nvSpPr>
          <p:spPr>
            <a:xfrm>
              <a:off x="6532560" y="3772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55"/>
            <p:cNvSpPr/>
            <p:nvPr/>
          </p:nvSpPr>
          <p:spPr>
            <a:xfrm>
              <a:off x="6532560" y="42249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"/>
            <p:cNvGrpSpPr/>
            <p:nvPr/>
          </p:nvGrpSpPr>
          <p:grpSpPr>
            <a:xfrm>
              <a:off x="6705360" y="4239720"/>
              <a:ext cx="276840" cy="360"/>
              <a:chOff x="6705360" y="4239720"/>
              <a:chExt cx="276840" cy="360"/>
            </a:xfrm>
          </p:grpSpPr>
          <p:sp>
            <p:nvSpPr>
              <p:cNvPr id="1020" name="Line 56"/>
              <p:cNvSpPr/>
              <p:nvPr/>
            </p:nvSpPr>
            <p:spPr>
              <a:xfrm>
                <a:off x="6705360" y="4239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6705360" y="4239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2" name="文本框 25"/>
          <p:cNvSpPr/>
          <p:nvPr/>
        </p:nvSpPr>
        <p:spPr>
          <a:xfrm>
            <a:off x="7156440" y="3919680"/>
            <a:ext cx="38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6"/>
          <p:cNvSpPr/>
          <p:nvPr/>
        </p:nvSpPr>
        <p:spPr>
          <a:xfrm>
            <a:off x="1133640" y="4548240"/>
            <a:ext cx="313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也就是（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7"/>
          <p:cNvSpPr/>
          <p:nvPr/>
        </p:nvSpPr>
        <p:spPr>
          <a:xfrm>
            <a:off x="879480" y="5181480"/>
            <a:ext cx="10256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28"/>
          <p:cNvSpPr/>
          <p:nvPr/>
        </p:nvSpPr>
        <p:spPr>
          <a:xfrm>
            <a:off x="1620720" y="5091120"/>
            <a:ext cx="6638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32"/>
          <p:cNvGrpSpPr/>
          <p:nvPr/>
        </p:nvGrpSpPr>
        <p:grpSpPr>
          <a:xfrm>
            <a:off x="2103480" y="5091120"/>
            <a:ext cx="630360" cy="835920"/>
            <a:chOff x="2103480" y="5091120"/>
            <a:chExt cx="630360" cy="835920"/>
          </a:xfrm>
        </p:grpSpPr>
        <p:sp>
          <p:nvSpPr>
            <p:cNvPr id="1027" name="Text Box 54"/>
            <p:cNvSpPr/>
            <p:nvPr/>
          </p:nvSpPr>
          <p:spPr>
            <a:xfrm>
              <a:off x="2109600" y="5091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55"/>
            <p:cNvSpPr/>
            <p:nvPr/>
          </p:nvSpPr>
          <p:spPr>
            <a:xfrm>
              <a:off x="2103480" y="55587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2282400" y="5558400"/>
              <a:ext cx="276840" cy="360"/>
              <a:chOff x="2282400" y="5558400"/>
              <a:chExt cx="276840" cy="360"/>
            </a:xfrm>
          </p:grpSpPr>
          <p:sp>
            <p:nvSpPr>
              <p:cNvPr id="1030" name="Line 56"/>
              <p:cNvSpPr/>
              <p:nvPr/>
            </p:nvSpPr>
            <p:spPr>
              <a:xfrm>
                <a:off x="2282400" y="5558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2282400" y="5558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文本框 39"/>
          <p:cNvSpPr/>
          <p:nvPr/>
        </p:nvSpPr>
        <p:spPr>
          <a:xfrm>
            <a:off x="2705040" y="5246640"/>
            <a:ext cx="1460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组合 32"/>
          <p:cNvGrpSpPr/>
          <p:nvPr/>
        </p:nvGrpSpPr>
        <p:grpSpPr>
          <a:xfrm>
            <a:off x="3992400" y="5091120"/>
            <a:ext cx="623880" cy="820440"/>
            <a:chOff x="3992400" y="5091120"/>
            <a:chExt cx="623880" cy="820440"/>
          </a:xfrm>
        </p:grpSpPr>
        <p:sp>
          <p:nvSpPr>
            <p:cNvPr id="1034" name="Text Box 54"/>
            <p:cNvSpPr/>
            <p:nvPr/>
          </p:nvSpPr>
          <p:spPr>
            <a:xfrm>
              <a:off x="3992400" y="50911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55"/>
            <p:cNvSpPr/>
            <p:nvPr/>
          </p:nvSpPr>
          <p:spPr>
            <a:xfrm>
              <a:off x="3992400" y="55432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4165200" y="5558040"/>
              <a:ext cx="276840" cy="360"/>
              <a:chOff x="4165200" y="5558040"/>
              <a:chExt cx="276840" cy="360"/>
            </a:xfrm>
          </p:grpSpPr>
          <p:sp>
            <p:nvSpPr>
              <p:cNvPr id="1037" name="Line 56"/>
              <p:cNvSpPr/>
              <p:nvPr/>
            </p:nvSpPr>
            <p:spPr>
              <a:xfrm>
                <a:off x="4165200" y="55580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4165200" y="55580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文本框 44"/>
          <p:cNvSpPr/>
          <p:nvPr/>
        </p:nvSpPr>
        <p:spPr>
          <a:xfrm>
            <a:off x="4616280" y="5219640"/>
            <a:ext cx="2254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（   ）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32"/>
          <p:cNvGrpSpPr/>
          <p:nvPr/>
        </p:nvGrpSpPr>
        <p:grpSpPr>
          <a:xfrm>
            <a:off x="6532560" y="4979880"/>
            <a:ext cx="623880" cy="820440"/>
            <a:chOff x="6532560" y="4979880"/>
            <a:chExt cx="623880" cy="820440"/>
          </a:xfrm>
        </p:grpSpPr>
        <p:sp>
          <p:nvSpPr>
            <p:cNvPr id="1041" name="Text Box 54"/>
            <p:cNvSpPr/>
            <p:nvPr/>
          </p:nvSpPr>
          <p:spPr>
            <a:xfrm>
              <a:off x="6532560" y="4979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55"/>
            <p:cNvSpPr/>
            <p:nvPr/>
          </p:nvSpPr>
          <p:spPr>
            <a:xfrm>
              <a:off x="6532560" y="54320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6705360" y="5446800"/>
              <a:ext cx="276840" cy="360"/>
              <a:chOff x="6705360" y="5446800"/>
              <a:chExt cx="276840" cy="360"/>
            </a:xfrm>
          </p:grpSpPr>
          <p:sp>
            <p:nvSpPr>
              <p:cNvPr id="1044" name="Line 56"/>
              <p:cNvSpPr/>
              <p:nvPr/>
            </p:nvSpPr>
            <p:spPr>
              <a:xfrm>
                <a:off x="6705360" y="54468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>
                <a:off x="6705360" y="54468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文本框 49"/>
          <p:cNvSpPr/>
          <p:nvPr/>
        </p:nvSpPr>
        <p:spPr>
          <a:xfrm>
            <a:off x="7156440" y="5127480"/>
            <a:ext cx="380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0"/>
          <p:cNvSpPr/>
          <p:nvPr/>
        </p:nvSpPr>
        <p:spPr>
          <a:xfrm>
            <a:off x="1133640" y="5638680"/>
            <a:ext cx="313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也就是（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51"/>
          <p:cNvSpPr/>
          <p:nvPr/>
        </p:nvSpPr>
        <p:spPr>
          <a:xfrm>
            <a:off x="6705720" y="1504800"/>
            <a:ext cx="8143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32"/>
          <p:cNvGrpSpPr/>
          <p:nvPr/>
        </p:nvGrpSpPr>
        <p:grpSpPr>
          <a:xfrm>
            <a:off x="2111400" y="2098800"/>
            <a:ext cx="593640" cy="835920"/>
            <a:chOff x="2111400" y="2098800"/>
            <a:chExt cx="593640" cy="835920"/>
          </a:xfrm>
        </p:grpSpPr>
        <p:sp>
          <p:nvSpPr>
            <p:cNvPr id="1050" name="Text Box 54"/>
            <p:cNvSpPr/>
            <p:nvPr/>
          </p:nvSpPr>
          <p:spPr>
            <a:xfrm>
              <a:off x="2111400" y="20988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55"/>
            <p:cNvSpPr/>
            <p:nvPr/>
          </p:nvSpPr>
          <p:spPr>
            <a:xfrm>
              <a:off x="2111400" y="25664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2275560" y="2565720"/>
              <a:ext cx="263160" cy="360"/>
              <a:chOff x="2275560" y="2565720"/>
              <a:chExt cx="263160" cy="360"/>
            </a:xfrm>
          </p:grpSpPr>
          <p:sp>
            <p:nvSpPr>
              <p:cNvPr id="1053" name="Line 56"/>
              <p:cNvSpPr/>
              <p:nvPr/>
            </p:nvSpPr>
            <p:spPr>
              <a:xfrm>
                <a:off x="2275560" y="25657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2275560" y="25657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文本框 56"/>
          <p:cNvSpPr/>
          <p:nvPr/>
        </p:nvSpPr>
        <p:spPr>
          <a:xfrm>
            <a:off x="4216320" y="2239920"/>
            <a:ext cx="39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545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57"/>
          <p:cNvSpPr/>
          <p:nvPr/>
        </p:nvSpPr>
        <p:spPr>
          <a:xfrm>
            <a:off x="6581880" y="2239920"/>
            <a:ext cx="39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32"/>
          <p:cNvGrpSpPr/>
          <p:nvPr/>
        </p:nvGrpSpPr>
        <p:grpSpPr>
          <a:xfrm>
            <a:off x="6815160" y="2736720"/>
            <a:ext cx="593640" cy="835200"/>
            <a:chOff x="6815160" y="2736720"/>
            <a:chExt cx="593640" cy="835200"/>
          </a:xfrm>
        </p:grpSpPr>
        <p:sp>
          <p:nvSpPr>
            <p:cNvPr id="1058" name="Text Box 54"/>
            <p:cNvSpPr/>
            <p:nvPr/>
          </p:nvSpPr>
          <p:spPr>
            <a:xfrm>
              <a:off x="6815160" y="27367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55"/>
            <p:cNvSpPr/>
            <p:nvPr/>
          </p:nvSpPr>
          <p:spPr>
            <a:xfrm>
              <a:off x="6815160" y="3203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6979320" y="3202920"/>
              <a:ext cx="263160" cy="360"/>
              <a:chOff x="6979320" y="3202920"/>
              <a:chExt cx="263160" cy="360"/>
            </a:xfrm>
          </p:grpSpPr>
          <p:sp>
            <p:nvSpPr>
              <p:cNvPr id="1061" name="Line 56"/>
              <p:cNvSpPr/>
              <p:nvPr/>
            </p:nvSpPr>
            <p:spPr>
              <a:xfrm>
                <a:off x="6979320" y="32029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6979320" y="32029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组合 32"/>
          <p:cNvGrpSpPr/>
          <p:nvPr/>
        </p:nvGrpSpPr>
        <p:grpSpPr>
          <a:xfrm>
            <a:off x="2276640" y="3203640"/>
            <a:ext cx="593640" cy="835920"/>
            <a:chOff x="2276640" y="3203640"/>
            <a:chExt cx="593640" cy="835920"/>
          </a:xfrm>
        </p:grpSpPr>
        <p:sp>
          <p:nvSpPr>
            <p:cNvPr id="1064" name="Text Box 54"/>
            <p:cNvSpPr/>
            <p:nvPr/>
          </p:nvSpPr>
          <p:spPr>
            <a:xfrm>
              <a:off x="2276640" y="3203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5"/>
            <p:cNvSpPr/>
            <p:nvPr/>
          </p:nvSpPr>
          <p:spPr>
            <a:xfrm>
              <a:off x="2276640" y="3671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2440800" y="3670560"/>
              <a:ext cx="263160" cy="360"/>
              <a:chOff x="2440800" y="3670560"/>
              <a:chExt cx="263160" cy="360"/>
            </a:xfrm>
          </p:grpSpPr>
          <p:sp>
            <p:nvSpPr>
              <p:cNvPr id="1067" name="Line 56"/>
              <p:cNvSpPr/>
              <p:nvPr/>
            </p:nvSpPr>
            <p:spPr>
              <a:xfrm>
                <a:off x="2440800" y="367056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2440800" y="367056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9" name="文本框 66"/>
          <p:cNvSpPr/>
          <p:nvPr/>
        </p:nvSpPr>
        <p:spPr>
          <a:xfrm>
            <a:off x="5388120" y="4048200"/>
            <a:ext cx="401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32"/>
          <p:cNvGrpSpPr/>
          <p:nvPr/>
        </p:nvGrpSpPr>
        <p:grpSpPr>
          <a:xfrm>
            <a:off x="2403360" y="4591080"/>
            <a:ext cx="594000" cy="826920"/>
            <a:chOff x="2403360" y="4591080"/>
            <a:chExt cx="594000" cy="826920"/>
          </a:xfrm>
        </p:grpSpPr>
        <p:sp>
          <p:nvSpPr>
            <p:cNvPr id="1071" name="Text Box 54"/>
            <p:cNvSpPr/>
            <p:nvPr/>
          </p:nvSpPr>
          <p:spPr>
            <a:xfrm>
              <a:off x="2403360" y="4591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55"/>
            <p:cNvSpPr/>
            <p:nvPr/>
          </p:nvSpPr>
          <p:spPr>
            <a:xfrm>
              <a:off x="2403360" y="5049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2567880" y="5049360"/>
              <a:ext cx="263520" cy="360"/>
              <a:chOff x="2567880" y="5049360"/>
              <a:chExt cx="263520" cy="360"/>
            </a:xfrm>
          </p:grpSpPr>
          <p:sp>
            <p:nvSpPr>
              <p:cNvPr id="1074" name="Line 56"/>
              <p:cNvSpPr/>
              <p:nvPr/>
            </p:nvSpPr>
            <p:spPr>
              <a:xfrm>
                <a:off x="2567880" y="5049360"/>
                <a:ext cx="26352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2567880" y="504936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文本框 71"/>
          <p:cNvSpPr/>
          <p:nvPr/>
        </p:nvSpPr>
        <p:spPr>
          <a:xfrm>
            <a:off x="5457960" y="5345280"/>
            <a:ext cx="39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32"/>
          <p:cNvGrpSpPr/>
          <p:nvPr/>
        </p:nvGrpSpPr>
        <p:grpSpPr>
          <a:xfrm>
            <a:off x="2403360" y="5638680"/>
            <a:ext cx="594000" cy="827640"/>
            <a:chOff x="2403360" y="5638680"/>
            <a:chExt cx="594000" cy="827640"/>
          </a:xfrm>
        </p:grpSpPr>
        <p:sp>
          <p:nvSpPr>
            <p:cNvPr id="1078" name="Text Box 54"/>
            <p:cNvSpPr/>
            <p:nvPr/>
          </p:nvSpPr>
          <p:spPr>
            <a:xfrm>
              <a:off x="2403360" y="56386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55"/>
            <p:cNvSpPr/>
            <p:nvPr/>
          </p:nvSpPr>
          <p:spPr>
            <a:xfrm>
              <a:off x="2403360" y="609804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2567880" y="6097680"/>
              <a:ext cx="263520" cy="360"/>
              <a:chOff x="2567880" y="6097680"/>
              <a:chExt cx="263520" cy="360"/>
            </a:xfrm>
          </p:grpSpPr>
          <p:sp>
            <p:nvSpPr>
              <p:cNvPr id="1081" name="Line 56"/>
              <p:cNvSpPr/>
              <p:nvPr/>
            </p:nvSpPr>
            <p:spPr>
              <a:xfrm>
                <a:off x="2567880" y="6097680"/>
                <a:ext cx="26352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2567880" y="609768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08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5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086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文本框 1"/>
          <p:cNvSpPr/>
          <p:nvPr/>
        </p:nvSpPr>
        <p:spPr>
          <a:xfrm>
            <a:off x="453960" y="825480"/>
            <a:ext cx="53420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图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组合 12" descr=""/>
          <p:cNvPicPr/>
          <p:nvPr/>
        </p:nvPicPr>
        <p:blipFill>
          <a:blip r:embed="rId1"/>
          <a:stretch/>
        </p:blipFill>
        <p:spPr>
          <a:xfrm>
            <a:off x="1654200" y="1913040"/>
            <a:ext cx="1255680" cy="927000"/>
          </a:xfrm>
          <a:prstGeom prst="rect">
            <a:avLst/>
          </a:prstGeom>
          <a:ln w="0">
            <a:noFill/>
          </a:ln>
        </p:spPr>
      </p:pic>
      <p:sp>
        <p:nvSpPr>
          <p:cNvPr id="1096" name="文本框 13"/>
          <p:cNvSpPr/>
          <p:nvPr/>
        </p:nvSpPr>
        <p:spPr>
          <a:xfrm>
            <a:off x="387360" y="1998720"/>
            <a:ext cx="1038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4"/>
          <p:cNvSpPr/>
          <p:nvPr/>
        </p:nvSpPr>
        <p:spPr>
          <a:xfrm>
            <a:off x="453960" y="3314880"/>
            <a:ext cx="103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15"/>
          <p:cNvSpPr/>
          <p:nvPr/>
        </p:nvSpPr>
        <p:spPr>
          <a:xfrm>
            <a:off x="463680" y="4653000"/>
            <a:ext cx="1038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组合 35"/>
          <p:cNvGrpSpPr/>
          <p:nvPr/>
        </p:nvGrpSpPr>
        <p:grpSpPr>
          <a:xfrm>
            <a:off x="3267000" y="3152880"/>
            <a:ext cx="1020960" cy="1009440"/>
            <a:chOff x="3267000" y="3152880"/>
            <a:chExt cx="1020960" cy="1009440"/>
          </a:xfrm>
        </p:grpSpPr>
        <p:sp>
          <p:nvSpPr>
            <p:cNvPr id="1100" name="饼形 27"/>
            <p:cNvSpPr/>
            <p:nvPr/>
          </p:nvSpPr>
          <p:spPr>
            <a:xfrm>
              <a:off x="3267000" y="3152880"/>
              <a:ext cx="1009440" cy="100944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808" y="0"/>
                  </a:moveTo>
                  <a:cubicBezTo>
                    <a:pt x="1240" y="8"/>
                    <a:pt x="1587" y="361"/>
                    <a:pt x="1587" y="794"/>
                  </a:cubicBezTo>
                  <a:cubicBezTo>
                    <a:pt x="1587" y="1233"/>
                    <a:pt x="1232" y="1588"/>
                    <a:pt x="793" y="1588"/>
                  </a:cubicBezTo>
                  <a:cubicBezTo>
                    <a:pt x="354" y="1588"/>
                    <a:pt x="-1" y="1233"/>
                    <a:pt x="-1" y="794"/>
                  </a:cubicBezTo>
                  <a:cubicBezTo>
                    <a:pt x="-1" y="355"/>
                    <a:pt x="354" y="0"/>
                    <a:pt x="793" y="0"/>
                  </a:cubicBezTo>
                  <a:lnTo>
                    <a:pt x="794" y="79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饼形 28"/>
            <p:cNvSpPr/>
            <p:nvPr/>
          </p:nvSpPr>
          <p:spPr>
            <a:xfrm>
              <a:off x="3267000" y="3152880"/>
              <a:ext cx="1020960" cy="1009440"/>
            </a:xfrm>
            <a:custGeom>
              <a:avLst/>
              <a:gdLst/>
              <a:ahLst/>
              <a:rect l="l" t="t" r="r" b="b"/>
              <a:pathLst>
                <a:path w="1606" h="1588">
                  <a:moveTo>
                    <a:pt x="226" y="1347"/>
                  </a:moveTo>
                  <a:cubicBezTo>
                    <a:pt x="85" y="1204"/>
                    <a:pt x="-1" y="1009"/>
                    <a:pt x="-1" y="794"/>
                  </a:cubicBezTo>
                  <a:cubicBezTo>
                    <a:pt x="-1" y="355"/>
                    <a:pt x="359" y="0"/>
                    <a:pt x="802" y="0"/>
                  </a:cubicBezTo>
                  <a:lnTo>
                    <a:pt x="803" y="794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组合 40"/>
          <p:cNvGrpSpPr/>
          <p:nvPr/>
        </p:nvGrpSpPr>
        <p:grpSpPr>
          <a:xfrm>
            <a:off x="1501560" y="3152880"/>
            <a:ext cx="1098360" cy="1009440"/>
            <a:chOff x="1501560" y="3152880"/>
            <a:chExt cx="1098360" cy="1009440"/>
          </a:xfrm>
        </p:grpSpPr>
        <p:sp>
          <p:nvSpPr>
            <p:cNvPr id="1103" name="饼形 37"/>
            <p:cNvSpPr/>
            <p:nvPr/>
          </p:nvSpPr>
          <p:spPr>
            <a:xfrm flipH="1">
              <a:off x="1501200" y="3152880"/>
              <a:ext cx="1098360" cy="100944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808" y="0"/>
                  </a:moveTo>
                  <a:cubicBezTo>
                    <a:pt x="1240" y="8"/>
                    <a:pt x="1587" y="361"/>
                    <a:pt x="1587" y="794"/>
                  </a:cubicBezTo>
                  <a:cubicBezTo>
                    <a:pt x="1587" y="1224"/>
                    <a:pt x="1246" y="1574"/>
                    <a:pt x="819" y="1588"/>
                  </a:cubicBezTo>
                  <a:lnTo>
                    <a:pt x="794" y="794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9"/>
            <p:cNvSpPr/>
            <p:nvPr/>
          </p:nvSpPr>
          <p:spPr>
            <a:xfrm>
              <a:off x="1501920" y="3152880"/>
              <a:ext cx="1019520" cy="1009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组合 55"/>
          <p:cNvGrpSpPr/>
          <p:nvPr/>
        </p:nvGrpSpPr>
        <p:grpSpPr>
          <a:xfrm>
            <a:off x="4511520" y="3103560"/>
            <a:ext cx="4035240" cy="864000"/>
            <a:chOff x="4511520" y="3103560"/>
            <a:chExt cx="4035240" cy="864000"/>
          </a:xfrm>
        </p:grpSpPr>
        <p:grpSp>
          <p:nvGrpSpPr>
            <p:cNvPr id="1106" name="组合 32"/>
            <p:cNvGrpSpPr/>
            <p:nvPr/>
          </p:nvGrpSpPr>
          <p:grpSpPr>
            <a:xfrm>
              <a:off x="4511520" y="3153600"/>
              <a:ext cx="1414800" cy="813960"/>
              <a:chOff x="4511520" y="3153600"/>
              <a:chExt cx="1414800" cy="813960"/>
            </a:xfrm>
          </p:grpSpPr>
          <p:sp>
            <p:nvSpPr>
              <p:cNvPr id="1107" name="Text Box 54"/>
              <p:cNvSpPr/>
              <p:nvPr/>
            </p:nvSpPr>
            <p:spPr>
              <a:xfrm>
                <a:off x="4511520" y="315360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 Box 55"/>
              <p:cNvSpPr/>
              <p:nvPr/>
            </p:nvSpPr>
            <p:spPr>
              <a:xfrm>
                <a:off x="4512600" y="359928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4904280" y="3614040"/>
                <a:ext cx="627120" cy="360"/>
                <a:chOff x="4904280" y="3614040"/>
                <a:chExt cx="627120" cy="360"/>
              </a:xfrm>
            </p:grpSpPr>
            <p:sp>
              <p:nvSpPr>
                <p:cNvPr id="1110" name="Line 56"/>
                <p:cNvSpPr/>
                <p:nvPr/>
              </p:nvSpPr>
              <p:spPr>
                <a:xfrm>
                  <a:off x="4904280" y="361404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>
                  <a:off x="4904280" y="361404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2" name="组合 32"/>
            <p:cNvGrpSpPr/>
            <p:nvPr/>
          </p:nvGrpSpPr>
          <p:grpSpPr>
            <a:xfrm>
              <a:off x="5913000" y="3103560"/>
              <a:ext cx="1414800" cy="814320"/>
              <a:chOff x="5913000" y="3103560"/>
              <a:chExt cx="1414800" cy="814320"/>
            </a:xfrm>
          </p:grpSpPr>
          <p:sp>
            <p:nvSpPr>
              <p:cNvPr id="1113" name="Text Box 54"/>
              <p:cNvSpPr/>
              <p:nvPr/>
            </p:nvSpPr>
            <p:spPr>
              <a:xfrm>
                <a:off x="5913000" y="310356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 Box 55"/>
              <p:cNvSpPr/>
              <p:nvPr/>
            </p:nvSpPr>
            <p:spPr>
              <a:xfrm>
                <a:off x="5914080" y="354960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6305760" y="3564000"/>
                <a:ext cx="627120" cy="360"/>
                <a:chOff x="6305760" y="3564000"/>
                <a:chExt cx="627120" cy="360"/>
              </a:xfrm>
            </p:grpSpPr>
            <p:sp>
              <p:nvSpPr>
                <p:cNvPr id="1116" name="Line 56"/>
                <p:cNvSpPr/>
                <p:nvPr/>
              </p:nvSpPr>
              <p:spPr>
                <a:xfrm>
                  <a:off x="6305760" y="356400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 txBox="1"/>
                <p:nvPr/>
              </p:nvSpPr>
              <p:spPr>
                <a:xfrm>
                  <a:off x="6305760" y="356400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8" name="组合 32"/>
            <p:cNvGrpSpPr/>
            <p:nvPr/>
          </p:nvGrpSpPr>
          <p:grpSpPr>
            <a:xfrm>
              <a:off x="7130880" y="3153600"/>
              <a:ext cx="1415880" cy="714600"/>
              <a:chOff x="7130880" y="3153600"/>
              <a:chExt cx="1415880" cy="714600"/>
            </a:xfrm>
          </p:grpSpPr>
          <p:sp>
            <p:nvSpPr>
              <p:cNvPr id="1119" name="Text Box 54"/>
              <p:cNvSpPr/>
              <p:nvPr/>
            </p:nvSpPr>
            <p:spPr>
              <a:xfrm>
                <a:off x="7130880" y="31536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Text Box 55"/>
              <p:cNvSpPr/>
              <p:nvPr/>
            </p:nvSpPr>
            <p:spPr>
              <a:xfrm>
                <a:off x="7132680" y="349992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7524360" y="3514680"/>
                <a:ext cx="627120" cy="360"/>
                <a:chOff x="7524360" y="3514680"/>
                <a:chExt cx="627120" cy="360"/>
              </a:xfrm>
            </p:grpSpPr>
            <p:sp>
              <p:nvSpPr>
                <p:cNvPr id="1122" name="Line 56"/>
                <p:cNvSpPr/>
                <p:nvPr/>
              </p:nvSpPr>
              <p:spPr>
                <a:xfrm>
                  <a:off x="7524360" y="351468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 txBox="1"/>
                <p:nvPr/>
              </p:nvSpPr>
              <p:spPr>
                <a:xfrm>
                  <a:off x="7524360" y="351468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文本框 53"/>
            <p:cNvSpPr/>
            <p:nvPr/>
          </p:nvSpPr>
          <p:spPr>
            <a:xfrm>
              <a:off x="5703480" y="326484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文本框 54"/>
            <p:cNvSpPr/>
            <p:nvPr/>
          </p:nvSpPr>
          <p:spPr>
            <a:xfrm>
              <a:off x="6991920" y="327168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组合 56"/>
          <p:cNvGrpSpPr/>
          <p:nvPr/>
        </p:nvGrpSpPr>
        <p:grpSpPr>
          <a:xfrm>
            <a:off x="4381560" y="4635360"/>
            <a:ext cx="4037040" cy="864360"/>
            <a:chOff x="4381560" y="4635360"/>
            <a:chExt cx="4037040" cy="864360"/>
          </a:xfrm>
        </p:grpSpPr>
        <p:grpSp>
          <p:nvGrpSpPr>
            <p:cNvPr id="1127" name="组合 32"/>
            <p:cNvGrpSpPr/>
            <p:nvPr/>
          </p:nvGrpSpPr>
          <p:grpSpPr>
            <a:xfrm>
              <a:off x="4381560" y="4685400"/>
              <a:ext cx="1415160" cy="814320"/>
              <a:chOff x="4381560" y="4685400"/>
              <a:chExt cx="1415160" cy="814320"/>
            </a:xfrm>
          </p:grpSpPr>
          <p:sp>
            <p:nvSpPr>
              <p:cNvPr id="1128" name="Text Box 54"/>
              <p:cNvSpPr/>
              <p:nvPr/>
            </p:nvSpPr>
            <p:spPr>
              <a:xfrm>
                <a:off x="4381560" y="46854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55"/>
              <p:cNvSpPr/>
              <p:nvPr/>
            </p:nvSpPr>
            <p:spPr>
              <a:xfrm>
                <a:off x="4382640" y="513144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4774320" y="5145840"/>
                <a:ext cx="627120" cy="360"/>
                <a:chOff x="4774320" y="5145840"/>
                <a:chExt cx="627120" cy="360"/>
              </a:xfrm>
            </p:grpSpPr>
            <p:sp>
              <p:nvSpPr>
                <p:cNvPr id="1131" name="Line 56"/>
                <p:cNvSpPr/>
                <p:nvPr/>
              </p:nvSpPr>
              <p:spPr>
                <a:xfrm>
                  <a:off x="4774320" y="514584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 txBox="1"/>
                <p:nvPr/>
              </p:nvSpPr>
              <p:spPr>
                <a:xfrm>
                  <a:off x="4774320" y="514584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3" name="组合 32"/>
            <p:cNvGrpSpPr/>
            <p:nvPr/>
          </p:nvGrpSpPr>
          <p:grpSpPr>
            <a:xfrm>
              <a:off x="5783400" y="4635360"/>
              <a:ext cx="1415160" cy="814320"/>
              <a:chOff x="5783400" y="4635360"/>
              <a:chExt cx="1415160" cy="814320"/>
            </a:xfrm>
          </p:grpSpPr>
          <p:sp>
            <p:nvSpPr>
              <p:cNvPr id="1134" name="Text Box 54"/>
              <p:cNvSpPr/>
              <p:nvPr/>
            </p:nvSpPr>
            <p:spPr>
              <a:xfrm>
                <a:off x="5783400" y="463536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55"/>
              <p:cNvSpPr/>
              <p:nvPr/>
            </p:nvSpPr>
            <p:spPr>
              <a:xfrm>
                <a:off x="5784480" y="50814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6176160" y="5096160"/>
                <a:ext cx="627120" cy="360"/>
                <a:chOff x="6176160" y="5096160"/>
                <a:chExt cx="627120" cy="360"/>
              </a:xfrm>
            </p:grpSpPr>
            <p:sp>
              <p:nvSpPr>
                <p:cNvPr id="1137" name="Line 56"/>
                <p:cNvSpPr/>
                <p:nvPr/>
              </p:nvSpPr>
              <p:spPr>
                <a:xfrm>
                  <a:off x="6176160" y="509616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6176160" y="509616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组合 32"/>
            <p:cNvGrpSpPr/>
            <p:nvPr/>
          </p:nvGrpSpPr>
          <p:grpSpPr>
            <a:xfrm>
              <a:off x="7002000" y="4685400"/>
              <a:ext cx="1416600" cy="714960"/>
              <a:chOff x="7002000" y="4685400"/>
              <a:chExt cx="1416600" cy="714960"/>
            </a:xfrm>
          </p:grpSpPr>
          <p:sp>
            <p:nvSpPr>
              <p:cNvPr id="1140" name="Text Box 54"/>
              <p:cNvSpPr/>
              <p:nvPr/>
            </p:nvSpPr>
            <p:spPr>
              <a:xfrm>
                <a:off x="7002000" y="4685400"/>
                <a:ext cx="14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55"/>
              <p:cNvSpPr/>
              <p:nvPr/>
            </p:nvSpPr>
            <p:spPr>
              <a:xfrm>
                <a:off x="7003800" y="5032080"/>
                <a:ext cx="14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7395840" y="5046840"/>
                <a:ext cx="627480" cy="360"/>
                <a:chOff x="7395840" y="5046840"/>
                <a:chExt cx="627480" cy="360"/>
              </a:xfrm>
            </p:grpSpPr>
            <p:sp>
              <p:nvSpPr>
                <p:cNvPr id="1143" name="Line 56"/>
                <p:cNvSpPr/>
                <p:nvPr/>
              </p:nvSpPr>
              <p:spPr>
                <a:xfrm>
                  <a:off x="7395840" y="5046840"/>
                  <a:ext cx="627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7395840" y="5046840"/>
                  <a:ext cx="627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文本框 69"/>
            <p:cNvSpPr/>
            <p:nvPr/>
          </p:nvSpPr>
          <p:spPr>
            <a:xfrm>
              <a:off x="5573880" y="479664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70"/>
            <p:cNvSpPr/>
            <p:nvPr/>
          </p:nvSpPr>
          <p:spPr>
            <a:xfrm>
              <a:off x="6863040" y="480348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93"/>
          <p:cNvGrpSpPr/>
          <p:nvPr/>
        </p:nvGrpSpPr>
        <p:grpSpPr>
          <a:xfrm>
            <a:off x="1276200" y="4844880"/>
            <a:ext cx="1246320" cy="601920"/>
            <a:chOff x="1276200" y="4844880"/>
            <a:chExt cx="1246320" cy="601920"/>
          </a:xfrm>
        </p:grpSpPr>
        <p:sp>
          <p:nvSpPr>
            <p:cNvPr id="1148" name="Rectangle 13"/>
            <p:cNvSpPr/>
            <p:nvPr/>
          </p:nvSpPr>
          <p:spPr>
            <a:xfrm>
              <a:off x="210744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2"/>
            <p:cNvSpPr/>
            <p:nvPr/>
          </p:nvSpPr>
          <p:spPr>
            <a:xfrm>
              <a:off x="127620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12"/>
            <p:cNvSpPr/>
            <p:nvPr/>
          </p:nvSpPr>
          <p:spPr>
            <a:xfrm>
              <a:off x="169128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12"/>
            <p:cNvSpPr/>
            <p:nvPr/>
          </p:nvSpPr>
          <p:spPr>
            <a:xfrm>
              <a:off x="127620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2"/>
            <p:cNvSpPr/>
            <p:nvPr/>
          </p:nvSpPr>
          <p:spPr>
            <a:xfrm>
              <a:off x="169128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3"/>
            <p:cNvSpPr/>
            <p:nvPr/>
          </p:nvSpPr>
          <p:spPr>
            <a:xfrm>
              <a:off x="210744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组合 94"/>
          <p:cNvGrpSpPr/>
          <p:nvPr/>
        </p:nvGrpSpPr>
        <p:grpSpPr>
          <a:xfrm>
            <a:off x="3216240" y="4915080"/>
            <a:ext cx="1244160" cy="601200"/>
            <a:chOff x="3216240" y="4915080"/>
            <a:chExt cx="1244160" cy="601200"/>
          </a:xfrm>
        </p:grpSpPr>
        <p:sp>
          <p:nvSpPr>
            <p:cNvPr id="1155" name="Rectangle 13"/>
            <p:cNvSpPr/>
            <p:nvPr/>
          </p:nvSpPr>
          <p:spPr>
            <a:xfrm>
              <a:off x="404388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2"/>
            <p:cNvSpPr/>
            <p:nvPr/>
          </p:nvSpPr>
          <p:spPr>
            <a:xfrm>
              <a:off x="321624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2"/>
            <p:cNvSpPr/>
            <p:nvPr/>
          </p:nvSpPr>
          <p:spPr>
            <a:xfrm>
              <a:off x="362916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2"/>
            <p:cNvSpPr/>
            <p:nvPr/>
          </p:nvSpPr>
          <p:spPr>
            <a:xfrm>
              <a:off x="3216240" y="5215680"/>
              <a:ext cx="415440" cy="300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2"/>
            <p:cNvSpPr/>
            <p:nvPr/>
          </p:nvSpPr>
          <p:spPr>
            <a:xfrm>
              <a:off x="3631680" y="52156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3"/>
            <p:cNvSpPr/>
            <p:nvPr/>
          </p:nvSpPr>
          <p:spPr>
            <a:xfrm>
              <a:off x="4044960" y="52156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文本框 91"/>
          <p:cNvSpPr/>
          <p:nvPr/>
        </p:nvSpPr>
        <p:spPr>
          <a:xfrm>
            <a:off x="2685960" y="35179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92"/>
          <p:cNvSpPr/>
          <p:nvPr/>
        </p:nvSpPr>
        <p:spPr>
          <a:xfrm>
            <a:off x="2685960" y="47941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组合 32"/>
          <p:cNvGrpSpPr/>
          <p:nvPr/>
        </p:nvGrpSpPr>
        <p:grpSpPr>
          <a:xfrm>
            <a:off x="5730840" y="1998720"/>
            <a:ext cx="593640" cy="827640"/>
            <a:chOff x="5730840" y="1998720"/>
            <a:chExt cx="593640" cy="827640"/>
          </a:xfrm>
        </p:grpSpPr>
        <p:sp>
          <p:nvSpPr>
            <p:cNvPr id="1164" name="Text Box 54"/>
            <p:cNvSpPr/>
            <p:nvPr/>
          </p:nvSpPr>
          <p:spPr>
            <a:xfrm>
              <a:off x="5730840" y="19987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55"/>
            <p:cNvSpPr/>
            <p:nvPr/>
          </p:nvSpPr>
          <p:spPr>
            <a:xfrm>
              <a:off x="5730840" y="24580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5895000" y="2457720"/>
              <a:ext cx="263160" cy="360"/>
              <a:chOff x="5895000" y="2457720"/>
              <a:chExt cx="263160" cy="360"/>
            </a:xfrm>
          </p:grpSpPr>
          <p:sp>
            <p:nvSpPr>
              <p:cNvPr id="1167" name="Line 56"/>
              <p:cNvSpPr/>
              <p:nvPr/>
            </p:nvSpPr>
            <p:spPr>
              <a:xfrm>
                <a:off x="5895000" y="24577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5895000" y="24577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9" name="组合 32"/>
          <p:cNvGrpSpPr/>
          <p:nvPr/>
        </p:nvGrpSpPr>
        <p:grpSpPr>
          <a:xfrm>
            <a:off x="3632040" y="1917720"/>
            <a:ext cx="594000" cy="827640"/>
            <a:chOff x="3632040" y="1917720"/>
            <a:chExt cx="594000" cy="827640"/>
          </a:xfrm>
        </p:grpSpPr>
        <p:sp>
          <p:nvSpPr>
            <p:cNvPr id="1170" name="Text Box 54"/>
            <p:cNvSpPr/>
            <p:nvPr/>
          </p:nvSpPr>
          <p:spPr>
            <a:xfrm>
              <a:off x="3632040" y="1917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 Box 55"/>
            <p:cNvSpPr/>
            <p:nvPr/>
          </p:nvSpPr>
          <p:spPr>
            <a:xfrm>
              <a:off x="3632040" y="2377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3796560" y="2376720"/>
              <a:ext cx="263520" cy="360"/>
              <a:chOff x="3796560" y="2376720"/>
              <a:chExt cx="263520" cy="360"/>
            </a:xfrm>
          </p:grpSpPr>
          <p:sp>
            <p:nvSpPr>
              <p:cNvPr id="1173" name="Line 56"/>
              <p:cNvSpPr/>
              <p:nvPr/>
            </p:nvSpPr>
            <p:spPr>
              <a:xfrm>
                <a:off x="3796560" y="2376720"/>
                <a:ext cx="26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3796560" y="237672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组合 32"/>
          <p:cNvGrpSpPr/>
          <p:nvPr/>
        </p:nvGrpSpPr>
        <p:grpSpPr>
          <a:xfrm>
            <a:off x="4511520" y="1998720"/>
            <a:ext cx="594000" cy="827640"/>
            <a:chOff x="4511520" y="1998720"/>
            <a:chExt cx="594000" cy="827640"/>
          </a:xfrm>
        </p:grpSpPr>
        <p:sp>
          <p:nvSpPr>
            <p:cNvPr id="1176" name="Text Box 54"/>
            <p:cNvSpPr/>
            <p:nvPr/>
          </p:nvSpPr>
          <p:spPr>
            <a:xfrm>
              <a:off x="4511520" y="1998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55"/>
            <p:cNvSpPr/>
            <p:nvPr/>
          </p:nvSpPr>
          <p:spPr>
            <a:xfrm>
              <a:off x="4511520" y="2458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4676040" y="2457720"/>
              <a:ext cx="263520" cy="360"/>
              <a:chOff x="4676040" y="2457720"/>
              <a:chExt cx="263520" cy="360"/>
            </a:xfrm>
          </p:grpSpPr>
          <p:sp>
            <p:nvSpPr>
              <p:cNvPr id="1179" name="Line 56"/>
              <p:cNvSpPr/>
              <p:nvPr/>
            </p:nvSpPr>
            <p:spPr>
              <a:xfrm>
                <a:off x="4676040" y="2457720"/>
                <a:ext cx="26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 txBox="1"/>
              <p:nvPr/>
            </p:nvSpPr>
            <p:spPr>
              <a:xfrm>
                <a:off x="4676040" y="245772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1" name="文本框 108"/>
          <p:cNvSpPr/>
          <p:nvPr/>
        </p:nvSpPr>
        <p:spPr>
          <a:xfrm>
            <a:off x="4164120" y="2131920"/>
            <a:ext cx="610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109"/>
          <p:cNvSpPr/>
          <p:nvPr/>
        </p:nvSpPr>
        <p:spPr>
          <a:xfrm>
            <a:off x="5173560" y="2125800"/>
            <a:ext cx="609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110"/>
          <p:cNvSpPr/>
          <p:nvPr/>
        </p:nvSpPr>
        <p:spPr>
          <a:xfrm>
            <a:off x="5402160" y="2131920"/>
            <a:ext cx="12495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组合 22"/>
          <p:cNvGrpSpPr/>
          <p:nvPr/>
        </p:nvGrpSpPr>
        <p:grpSpPr>
          <a:xfrm>
            <a:off x="5010120" y="3079800"/>
            <a:ext cx="419040" cy="1002960"/>
            <a:chOff x="5010120" y="3079800"/>
            <a:chExt cx="419040" cy="1002960"/>
          </a:xfrm>
        </p:grpSpPr>
        <p:sp>
          <p:nvSpPr>
            <p:cNvPr id="1185" name="文本框 111"/>
            <p:cNvSpPr/>
            <p:nvPr/>
          </p:nvSpPr>
          <p:spPr>
            <a:xfrm>
              <a:off x="5010120" y="3612960"/>
              <a:ext cx="419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112"/>
            <p:cNvSpPr/>
            <p:nvPr/>
          </p:nvSpPr>
          <p:spPr>
            <a:xfrm>
              <a:off x="5010120" y="3079800"/>
              <a:ext cx="419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23"/>
          <p:cNvGrpSpPr/>
          <p:nvPr/>
        </p:nvGrpSpPr>
        <p:grpSpPr>
          <a:xfrm>
            <a:off x="6410160" y="3079800"/>
            <a:ext cx="452160" cy="981000"/>
            <a:chOff x="6410160" y="3079800"/>
            <a:chExt cx="452160" cy="981000"/>
          </a:xfrm>
        </p:grpSpPr>
        <p:sp>
          <p:nvSpPr>
            <p:cNvPr id="1188" name="文本框 113"/>
            <p:cNvSpPr/>
            <p:nvPr/>
          </p:nvSpPr>
          <p:spPr>
            <a:xfrm>
              <a:off x="6442920" y="359100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文本框 114"/>
            <p:cNvSpPr/>
            <p:nvPr/>
          </p:nvSpPr>
          <p:spPr>
            <a:xfrm>
              <a:off x="6410160" y="307980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24"/>
          <p:cNvGrpSpPr/>
          <p:nvPr/>
        </p:nvGrpSpPr>
        <p:grpSpPr>
          <a:xfrm>
            <a:off x="7629480" y="3030480"/>
            <a:ext cx="420480" cy="955800"/>
            <a:chOff x="7629480" y="3030480"/>
            <a:chExt cx="420480" cy="955800"/>
          </a:xfrm>
        </p:grpSpPr>
        <p:sp>
          <p:nvSpPr>
            <p:cNvPr id="1191" name="文本框 115"/>
            <p:cNvSpPr/>
            <p:nvPr/>
          </p:nvSpPr>
          <p:spPr>
            <a:xfrm>
              <a:off x="7629480" y="3518280"/>
              <a:ext cx="41940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文本框 116"/>
            <p:cNvSpPr/>
            <p:nvPr/>
          </p:nvSpPr>
          <p:spPr>
            <a:xfrm>
              <a:off x="7630560" y="303048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组合 25"/>
          <p:cNvGrpSpPr/>
          <p:nvPr/>
        </p:nvGrpSpPr>
        <p:grpSpPr>
          <a:xfrm>
            <a:off x="4878360" y="4584600"/>
            <a:ext cx="444240" cy="1029960"/>
            <a:chOff x="4878360" y="4584600"/>
            <a:chExt cx="444240" cy="1029960"/>
          </a:xfrm>
        </p:grpSpPr>
        <p:sp>
          <p:nvSpPr>
            <p:cNvPr id="1194" name="文本框 117"/>
            <p:cNvSpPr/>
            <p:nvPr/>
          </p:nvSpPr>
          <p:spPr>
            <a:xfrm>
              <a:off x="4903560" y="5146560"/>
              <a:ext cx="41904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文本框 118"/>
            <p:cNvSpPr/>
            <p:nvPr/>
          </p:nvSpPr>
          <p:spPr>
            <a:xfrm>
              <a:off x="4878360" y="4584600"/>
              <a:ext cx="41940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26"/>
          <p:cNvGrpSpPr/>
          <p:nvPr/>
        </p:nvGrpSpPr>
        <p:grpSpPr>
          <a:xfrm>
            <a:off x="6324480" y="4548240"/>
            <a:ext cx="419400" cy="1017000"/>
            <a:chOff x="6324480" y="4548240"/>
            <a:chExt cx="419400" cy="1017000"/>
          </a:xfrm>
        </p:grpSpPr>
        <p:sp>
          <p:nvSpPr>
            <p:cNvPr id="1197" name="文本框 119"/>
            <p:cNvSpPr/>
            <p:nvPr/>
          </p:nvSpPr>
          <p:spPr>
            <a:xfrm>
              <a:off x="6324480" y="5095800"/>
              <a:ext cx="41940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121"/>
            <p:cNvSpPr/>
            <p:nvPr/>
          </p:nvSpPr>
          <p:spPr>
            <a:xfrm>
              <a:off x="6324480" y="454824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27"/>
          <p:cNvGrpSpPr/>
          <p:nvPr/>
        </p:nvGrpSpPr>
        <p:grpSpPr>
          <a:xfrm>
            <a:off x="7499520" y="4562640"/>
            <a:ext cx="421920" cy="959760"/>
            <a:chOff x="7499520" y="4562640"/>
            <a:chExt cx="421920" cy="959760"/>
          </a:xfrm>
        </p:grpSpPr>
        <p:sp>
          <p:nvSpPr>
            <p:cNvPr id="1200" name="文本框 120"/>
            <p:cNvSpPr/>
            <p:nvPr/>
          </p:nvSpPr>
          <p:spPr>
            <a:xfrm>
              <a:off x="7499520" y="5052960"/>
              <a:ext cx="4190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122"/>
            <p:cNvSpPr/>
            <p:nvPr/>
          </p:nvSpPr>
          <p:spPr>
            <a:xfrm>
              <a:off x="7502400" y="4562640"/>
              <a:ext cx="4190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203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205" name="椭圆 14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6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椭圆 1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文本框 3"/>
          <p:cNvSpPr/>
          <p:nvPr/>
        </p:nvSpPr>
        <p:spPr>
          <a:xfrm>
            <a:off x="361800" y="803160"/>
            <a:ext cx="4891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组合 20"/>
          <p:cNvGrpSpPr/>
          <p:nvPr/>
        </p:nvGrpSpPr>
        <p:grpSpPr>
          <a:xfrm>
            <a:off x="588960" y="1790640"/>
            <a:ext cx="2336760" cy="835200"/>
            <a:chOff x="588960" y="1790640"/>
            <a:chExt cx="2336760" cy="835200"/>
          </a:xfrm>
        </p:grpSpPr>
        <p:grpSp>
          <p:nvGrpSpPr>
            <p:cNvPr id="1215" name="组合 32"/>
            <p:cNvGrpSpPr/>
            <p:nvPr/>
          </p:nvGrpSpPr>
          <p:grpSpPr>
            <a:xfrm>
              <a:off x="588960" y="1790640"/>
              <a:ext cx="623160" cy="835200"/>
              <a:chOff x="588960" y="1790640"/>
              <a:chExt cx="623160" cy="835200"/>
            </a:xfrm>
          </p:grpSpPr>
          <p:sp>
            <p:nvSpPr>
              <p:cNvPr id="1216" name="Text Box 54"/>
              <p:cNvSpPr/>
              <p:nvPr/>
            </p:nvSpPr>
            <p:spPr>
              <a:xfrm>
                <a:off x="588960" y="1790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55"/>
              <p:cNvSpPr/>
              <p:nvPr/>
            </p:nvSpPr>
            <p:spPr>
              <a:xfrm>
                <a:off x="588960" y="2257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762120" y="2256840"/>
                <a:ext cx="276480" cy="360"/>
                <a:chOff x="762120" y="2256840"/>
                <a:chExt cx="276480" cy="360"/>
              </a:xfrm>
            </p:grpSpPr>
            <p:sp>
              <p:nvSpPr>
                <p:cNvPr id="1219" name="Line 56"/>
                <p:cNvSpPr/>
                <p:nvPr/>
              </p:nvSpPr>
              <p:spPr>
                <a:xfrm>
                  <a:off x="762120" y="225684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 txBox="1"/>
                <p:nvPr/>
              </p:nvSpPr>
              <p:spPr>
                <a:xfrm>
                  <a:off x="762120" y="22568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组合 32"/>
            <p:cNvGrpSpPr/>
            <p:nvPr/>
          </p:nvGrpSpPr>
          <p:grpSpPr>
            <a:xfrm>
              <a:off x="1692000" y="1790640"/>
              <a:ext cx="623160" cy="835200"/>
              <a:chOff x="1692000" y="1790640"/>
              <a:chExt cx="623160" cy="835200"/>
            </a:xfrm>
          </p:grpSpPr>
          <p:sp>
            <p:nvSpPr>
              <p:cNvPr id="1222" name="Text Box 54"/>
              <p:cNvSpPr/>
              <p:nvPr/>
            </p:nvSpPr>
            <p:spPr>
              <a:xfrm>
                <a:off x="1692000" y="1790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ext Box 55"/>
              <p:cNvSpPr/>
              <p:nvPr/>
            </p:nvSpPr>
            <p:spPr>
              <a:xfrm>
                <a:off x="1692000" y="2257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1865160" y="2256840"/>
                <a:ext cx="276480" cy="360"/>
                <a:chOff x="1865160" y="2256840"/>
                <a:chExt cx="276480" cy="360"/>
              </a:xfrm>
            </p:grpSpPr>
            <p:sp>
              <p:nvSpPr>
                <p:cNvPr id="1225" name="Line 56"/>
                <p:cNvSpPr/>
                <p:nvPr/>
              </p:nvSpPr>
              <p:spPr>
                <a:xfrm>
                  <a:off x="1865160" y="225684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 txBox="1"/>
                <p:nvPr/>
              </p:nvSpPr>
              <p:spPr>
                <a:xfrm>
                  <a:off x="1865160" y="22568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7" name="文本框 91"/>
            <p:cNvSpPr/>
            <p:nvPr/>
          </p:nvSpPr>
          <p:spPr>
            <a:xfrm>
              <a:off x="1201320" y="1882440"/>
              <a:ext cx="5806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文本框 54"/>
            <p:cNvSpPr/>
            <p:nvPr/>
          </p:nvSpPr>
          <p:spPr>
            <a:xfrm>
              <a:off x="2315880" y="1936440"/>
              <a:ext cx="6098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32"/>
          <p:cNvGrpSpPr/>
          <p:nvPr/>
        </p:nvGrpSpPr>
        <p:grpSpPr>
          <a:xfrm>
            <a:off x="3352680" y="1790640"/>
            <a:ext cx="622440" cy="835200"/>
            <a:chOff x="3352680" y="1790640"/>
            <a:chExt cx="622440" cy="835200"/>
          </a:xfrm>
        </p:grpSpPr>
        <p:sp>
          <p:nvSpPr>
            <p:cNvPr id="1230" name="Text Box 54"/>
            <p:cNvSpPr/>
            <p:nvPr/>
          </p:nvSpPr>
          <p:spPr>
            <a:xfrm>
              <a:off x="3352680" y="1790640"/>
              <a:ext cx="6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55"/>
            <p:cNvSpPr/>
            <p:nvPr/>
          </p:nvSpPr>
          <p:spPr>
            <a:xfrm>
              <a:off x="3352680" y="2257560"/>
              <a:ext cx="6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3525480" y="2256840"/>
              <a:ext cx="276120" cy="360"/>
              <a:chOff x="3525480" y="2256840"/>
              <a:chExt cx="276120" cy="360"/>
            </a:xfrm>
          </p:grpSpPr>
          <p:sp>
            <p:nvSpPr>
              <p:cNvPr id="1233" name="Line 56"/>
              <p:cNvSpPr/>
              <p:nvPr/>
            </p:nvSpPr>
            <p:spPr>
              <a:xfrm>
                <a:off x="3525480" y="2256840"/>
                <a:ext cx="27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 txBox="1"/>
              <p:nvPr/>
            </p:nvSpPr>
            <p:spPr>
              <a:xfrm>
                <a:off x="3525480" y="225684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5" name="组合 32"/>
          <p:cNvGrpSpPr/>
          <p:nvPr/>
        </p:nvGrpSpPr>
        <p:grpSpPr>
          <a:xfrm>
            <a:off x="4227480" y="1816200"/>
            <a:ext cx="623880" cy="834840"/>
            <a:chOff x="4227480" y="1816200"/>
            <a:chExt cx="623880" cy="834840"/>
          </a:xfrm>
        </p:grpSpPr>
        <p:sp>
          <p:nvSpPr>
            <p:cNvPr id="1236" name="Text Box 54"/>
            <p:cNvSpPr/>
            <p:nvPr/>
          </p:nvSpPr>
          <p:spPr>
            <a:xfrm>
              <a:off x="4227480" y="1816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55"/>
            <p:cNvSpPr/>
            <p:nvPr/>
          </p:nvSpPr>
          <p:spPr>
            <a:xfrm>
              <a:off x="4227480" y="22827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4401000" y="2282400"/>
              <a:ext cx="276840" cy="360"/>
              <a:chOff x="4401000" y="2282400"/>
              <a:chExt cx="276840" cy="360"/>
            </a:xfrm>
          </p:grpSpPr>
          <p:sp>
            <p:nvSpPr>
              <p:cNvPr id="1239" name="Line 56"/>
              <p:cNvSpPr/>
              <p:nvPr/>
            </p:nvSpPr>
            <p:spPr>
              <a:xfrm>
                <a:off x="4401000" y="2282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 txBox="1"/>
              <p:nvPr/>
            </p:nvSpPr>
            <p:spPr>
              <a:xfrm>
                <a:off x="4401000" y="2282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1" name="文本框 18"/>
          <p:cNvSpPr/>
          <p:nvPr/>
        </p:nvSpPr>
        <p:spPr>
          <a:xfrm>
            <a:off x="3801960" y="20113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19"/>
          <p:cNvSpPr/>
          <p:nvPr/>
        </p:nvSpPr>
        <p:spPr>
          <a:xfrm>
            <a:off x="4851360" y="2013120"/>
            <a:ext cx="609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组合 32"/>
          <p:cNvGrpSpPr/>
          <p:nvPr/>
        </p:nvGrpSpPr>
        <p:grpSpPr>
          <a:xfrm>
            <a:off x="5897520" y="1843200"/>
            <a:ext cx="623880" cy="835920"/>
            <a:chOff x="5897520" y="1843200"/>
            <a:chExt cx="623880" cy="835920"/>
          </a:xfrm>
        </p:grpSpPr>
        <p:sp>
          <p:nvSpPr>
            <p:cNvPr id="1244" name="Text Box 54"/>
            <p:cNvSpPr/>
            <p:nvPr/>
          </p:nvSpPr>
          <p:spPr>
            <a:xfrm>
              <a:off x="5897520" y="1843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55"/>
            <p:cNvSpPr/>
            <p:nvPr/>
          </p:nvSpPr>
          <p:spPr>
            <a:xfrm>
              <a:off x="5897520" y="2310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71040" y="2310120"/>
              <a:ext cx="276840" cy="360"/>
              <a:chOff x="6071040" y="2310120"/>
              <a:chExt cx="276840" cy="360"/>
            </a:xfrm>
          </p:grpSpPr>
          <p:sp>
            <p:nvSpPr>
              <p:cNvPr id="1247" name="Line 56"/>
              <p:cNvSpPr/>
              <p:nvPr/>
            </p:nvSpPr>
            <p:spPr>
              <a:xfrm>
                <a:off x="6071040" y="2310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 txBox="1"/>
              <p:nvPr/>
            </p:nvSpPr>
            <p:spPr>
              <a:xfrm>
                <a:off x="6071040" y="2310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组合 32"/>
          <p:cNvGrpSpPr/>
          <p:nvPr/>
        </p:nvGrpSpPr>
        <p:grpSpPr>
          <a:xfrm>
            <a:off x="7000920" y="1843200"/>
            <a:ext cx="623880" cy="835920"/>
            <a:chOff x="7000920" y="1843200"/>
            <a:chExt cx="623880" cy="835920"/>
          </a:xfrm>
        </p:grpSpPr>
        <p:sp>
          <p:nvSpPr>
            <p:cNvPr id="1250" name="Text Box 54"/>
            <p:cNvSpPr/>
            <p:nvPr/>
          </p:nvSpPr>
          <p:spPr>
            <a:xfrm>
              <a:off x="7000920" y="1843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55"/>
            <p:cNvSpPr/>
            <p:nvPr/>
          </p:nvSpPr>
          <p:spPr>
            <a:xfrm>
              <a:off x="7000920" y="2310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7174440" y="2310120"/>
              <a:ext cx="276840" cy="360"/>
              <a:chOff x="7174440" y="2310120"/>
              <a:chExt cx="276840" cy="360"/>
            </a:xfrm>
          </p:grpSpPr>
          <p:sp>
            <p:nvSpPr>
              <p:cNvPr id="1253" name="Line 56"/>
              <p:cNvSpPr/>
              <p:nvPr/>
            </p:nvSpPr>
            <p:spPr>
              <a:xfrm>
                <a:off x="7174440" y="2310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>
                <a:off x="7174440" y="2310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5" name="文本框 37"/>
          <p:cNvSpPr/>
          <p:nvPr/>
        </p:nvSpPr>
        <p:spPr>
          <a:xfrm>
            <a:off x="6508800" y="1935000"/>
            <a:ext cx="58104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38"/>
          <p:cNvSpPr/>
          <p:nvPr/>
        </p:nvSpPr>
        <p:spPr>
          <a:xfrm>
            <a:off x="7624800" y="1989000"/>
            <a:ext cx="609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组合 51"/>
          <p:cNvGrpSpPr/>
          <p:nvPr/>
        </p:nvGrpSpPr>
        <p:grpSpPr>
          <a:xfrm>
            <a:off x="720720" y="3716280"/>
            <a:ext cx="2282760" cy="835920"/>
            <a:chOff x="720720" y="3716280"/>
            <a:chExt cx="2282760" cy="835920"/>
          </a:xfrm>
        </p:grpSpPr>
        <p:sp>
          <p:nvSpPr>
            <p:cNvPr id="1258" name="Text Box 54"/>
            <p:cNvSpPr/>
            <p:nvPr/>
          </p:nvSpPr>
          <p:spPr>
            <a:xfrm>
              <a:off x="1769760" y="3716280"/>
              <a:ext cx="6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55"/>
            <p:cNvSpPr/>
            <p:nvPr/>
          </p:nvSpPr>
          <p:spPr>
            <a:xfrm>
              <a:off x="1769760" y="4183920"/>
              <a:ext cx="6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1942920" y="4183200"/>
              <a:ext cx="276480" cy="360"/>
              <a:chOff x="1942920" y="4183200"/>
              <a:chExt cx="276480" cy="360"/>
            </a:xfrm>
          </p:grpSpPr>
          <p:sp>
            <p:nvSpPr>
              <p:cNvPr id="1261" name="Line 56"/>
              <p:cNvSpPr/>
              <p:nvPr/>
            </p:nvSpPr>
            <p:spPr>
              <a:xfrm>
                <a:off x="1942920" y="4183200"/>
                <a:ext cx="27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>
                <a:off x="1942920" y="4183200"/>
                <a:ext cx="27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文本框 48"/>
            <p:cNvSpPr/>
            <p:nvPr/>
          </p:nvSpPr>
          <p:spPr>
            <a:xfrm>
              <a:off x="1278000" y="3808440"/>
              <a:ext cx="581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文本框 49"/>
            <p:cNvSpPr/>
            <p:nvPr/>
          </p:nvSpPr>
          <p:spPr>
            <a:xfrm>
              <a:off x="2393280" y="386208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文本框 50"/>
            <p:cNvSpPr/>
            <p:nvPr/>
          </p:nvSpPr>
          <p:spPr>
            <a:xfrm>
              <a:off x="720720" y="3932640"/>
              <a:ext cx="4737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组合 52"/>
          <p:cNvGrpSpPr/>
          <p:nvPr/>
        </p:nvGrpSpPr>
        <p:grpSpPr>
          <a:xfrm>
            <a:off x="3525840" y="3654360"/>
            <a:ext cx="2336400" cy="870840"/>
            <a:chOff x="3525840" y="3654360"/>
            <a:chExt cx="2336400" cy="870840"/>
          </a:xfrm>
        </p:grpSpPr>
        <p:grpSp>
          <p:nvGrpSpPr>
            <p:cNvPr id="1267" name="组合 32"/>
            <p:cNvGrpSpPr/>
            <p:nvPr/>
          </p:nvGrpSpPr>
          <p:grpSpPr>
            <a:xfrm>
              <a:off x="3525840" y="3654360"/>
              <a:ext cx="623160" cy="870480"/>
              <a:chOff x="3525840" y="3654360"/>
              <a:chExt cx="623160" cy="870480"/>
            </a:xfrm>
          </p:grpSpPr>
          <p:sp>
            <p:nvSpPr>
              <p:cNvPr id="1268" name="Text Box 54"/>
              <p:cNvSpPr/>
              <p:nvPr/>
            </p:nvSpPr>
            <p:spPr>
              <a:xfrm>
                <a:off x="3525840" y="36543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Text Box 55"/>
              <p:cNvSpPr/>
              <p:nvPr/>
            </p:nvSpPr>
            <p:spPr>
              <a:xfrm>
                <a:off x="3525840" y="4156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3699000" y="4156200"/>
                <a:ext cx="276480" cy="360"/>
                <a:chOff x="3699000" y="4156200"/>
                <a:chExt cx="276480" cy="360"/>
              </a:xfrm>
            </p:grpSpPr>
            <p:sp>
              <p:nvSpPr>
                <p:cNvPr id="1271" name="Line 56"/>
                <p:cNvSpPr/>
                <p:nvPr/>
              </p:nvSpPr>
              <p:spPr>
                <a:xfrm>
                  <a:off x="369900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 txBox="1"/>
                <p:nvPr/>
              </p:nvSpPr>
              <p:spPr>
                <a:xfrm>
                  <a:off x="369900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3" name="组合 32"/>
            <p:cNvGrpSpPr/>
            <p:nvPr/>
          </p:nvGrpSpPr>
          <p:grpSpPr>
            <a:xfrm>
              <a:off x="4629240" y="3689640"/>
              <a:ext cx="623160" cy="835560"/>
              <a:chOff x="4629240" y="3689640"/>
              <a:chExt cx="623160" cy="835560"/>
            </a:xfrm>
          </p:grpSpPr>
          <p:sp>
            <p:nvSpPr>
              <p:cNvPr id="1274" name="Text Box 54"/>
              <p:cNvSpPr/>
              <p:nvPr/>
            </p:nvSpPr>
            <p:spPr>
              <a:xfrm>
                <a:off x="4629240" y="3689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Text Box 55"/>
              <p:cNvSpPr/>
              <p:nvPr/>
            </p:nvSpPr>
            <p:spPr>
              <a:xfrm>
                <a:off x="462924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4802400" y="4156200"/>
                <a:ext cx="276480" cy="360"/>
                <a:chOff x="4802400" y="4156200"/>
                <a:chExt cx="276480" cy="360"/>
              </a:xfrm>
            </p:grpSpPr>
            <p:sp>
              <p:nvSpPr>
                <p:cNvPr id="1277" name="Line 56"/>
                <p:cNvSpPr/>
                <p:nvPr/>
              </p:nvSpPr>
              <p:spPr>
                <a:xfrm>
                  <a:off x="480240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 txBox="1"/>
                <p:nvPr/>
              </p:nvSpPr>
              <p:spPr>
                <a:xfrm>
                  <a:off x="480240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9" name="文本框 62"/>
            <p:cNvSpPr/>
            <p:nvPr/>
          </p:nvSpPr>
          <p:spPr>
            <a:xfrm>
              <a:off x="4137840" y="3781800"/>
              <a:ext cx="5806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文本框 63"/>
            <p:cNvSpPr/>
            <p:nvPr/>
          </p:nvSpPr>
          <p:spPr>
            <a:xfrm>
              <a:off x="5252400" y="3835800"/>
              <a:ext cx="6098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组合 65"/>
          <p:cNvGrpSpPr/>
          <p:nvPr/>
        </p:nvGrpSpPr>
        <p:grpSpPr>
          <a:xfrm>
            <a:off x="6070680" y="3689280"/>
            <a:ext cx="2336400" cy="835920"/>
            <a:chOff x="6070680" y="3689280"/>
            <a:chExt cx="2336400" cy="835920"/>
          </a:xfrm>
        </p:grpSpPr>
        <p:grpSp>
          <p:nvGrpSpPr>
            <p:cNvPr id="1282" name="组合 32"/>
            <p:cNvGrpSpPr/>
            <p:nvPr/>
          </p:nvGrpSpPr>
          <p:grpSpPr>
            <a:xfrm>
              <a:off x="6070680" y="3689280"/>
              <a:ext cx="623160" cy="835920"/>
              <a:chOff x="6070680" y="3689280"/>
              <a:chExt cx="623160" cy="835920"/>
            </a:xfrm>
          </p:grpSpPr>
          <p:sp>
            <p:nvSpPr>
              <p:cNvPr id="1283" name="Text Box 54"/>
              <p:cNvSpPr/>
              <p:nvPr/>
            </p:nvSpPr>
            <p:spPr>
              <a:xfrm>
                <a:off x="6070680" y="368928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Text Box 55"/>
              <p:cNvSpPr/>
              <p:nvPr/>
            </p:nvSpPr>
            <p:spPr>
              <a:xfrm>
                <a:off x="607068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"/>
              <p:cNvGrpSpPr/>
              <p:nvPr/>
            </p:nvGrpSpPr>
            <p:grpSpPr>
              <a:xfrm>
                <a:off x="6243840" y="4156200"/>
                <a:ext cx="276480" cy="360"/>
                <a:chOff x="6243840" y="4156200"/>
                <a:chExt cx="276480" cy="360"/>
              </a:xfrm>
            </p:grpSpPr>
            <p:sp>
              <p:nvSpPr>
                <p:cNvPr id="1286" name="Line 56"/>
                <p:cNvSpPr/>
                <p:nvPr/>
              </p:nvSpPr>
              <p:spPr>
                <a:xfrm>
                  <a:off x="624384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 txBox="1"/>
                <p:nvPr/>
              </p:nvSpPr>
              <p:spPr>
                <a:xfrm>
                  <a:off x="624384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组合 32"/>
            <p:cNvGrpSpPr/>
            <p:nvPr/>
          </p:nvGrpSpPr>
          <p:grpSpPr>
            <a:xfrm>
              <a:off x="7174080" y="3689280"/>
              <a:ext cx="623160" cy="835920"/>
              <a:chOff x="7174080" y="3689280"/>
              <a:chExt cx="623160" cy="835920"/>
            </a:xfrm>
          </p:grpSpPr>
          <p:sp>
            <p:nvSpPr>
              <p:cNvPr id="1289" name="Text Box 54"/>
              <p:cNvSpPr/>
              <p:nvPr/>
            </p:nvSpPr>
            <p:spPr>
              <a:xfrm>
                <a:off x="7174080" y="368928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Text Box 55"/>
              <p:cNvSpPr/>
              <p:nvPr/>
            </p:nvSpPr>
            <p:spPr>
              <a:xfrm>
                <a:off x="717408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7347240" y="4156200"/>
                <a:ext cx="276480" cy="360"/>
                <a:chOff x="7347240" y="4156200"/>
                <a:chExt cx="276480" cy="360"/>
              </a:xfrm>
            </p:grpSpPr>
            <p:sp>
              <p:nvSpPr>
                <p:cNvPr id="1292" name="Line 56"/>
                <p:cNvSpPr/>
                <p:nvPr/>
              </p:nvSpPr>
              <p:spPr>
                <a:xfrm>
                  <a:off x="734724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 txBox="1"/>
                <p:nvPr/>
              </p:nvSpPr>
              <p:spPr>
                <a:xfrm>
                  <a:off x="734724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4" name="文本框 74"/>
            <p:cNvSpPr/>
            <p:nvPr/>
          </p:nvSpPr>
          <p:spPr>
            <a:xfrm>
              <a:off x="6682680" y="3781080"/>
              <a:ext cx="580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文本框 75"/>
            <p:cNvSpPr/>
            <p:nvPr/>
          </p:nvSpPr>
          <p:spPr>
            <a:xfrm>
              <a:off x="7797240" y="383508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组合 32"/>
          <p:cNvGrpSpPr/>
          <p:nvPr/>
        </p:nvGrpSpPr>
        <p:grpSpPr>
          <a:xfrm>
            <a:off x="2673360" y="1790640"/>
            <a:ext cx="593640" cy="835200"/>
            <a:chOff x="2673360" y="1790640"/>
            <a:chExt cx="593640" cy="835200"/>
          </a:xfrm>
        </p:grpSpPr>
        <p:sp>
          <p:nvSpPr>
            <p:cNvPr id="1297" name="Text Box 54"/>
            <p:cNvSpPr/>
            <p:nvPr/>
          </p:nvSpPr>
          <p:spPr>
            <a:xfrm>
              <a:off x="2673360" y="1790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55"/>
            <p:cNvSpPr/>
            <p:nvPr/>
          </p:nvSpPr>
          <p:spPr>
            <a:xfrm>
              <a:off x="2673360" y="22575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2837520" y="2256840"/>
              <a:ext cx="263160" cy="360"/>
              <a:chOff x="2837520" y="2256840"/>
              <a:chExt cx="263160" cy="360"/>
            </a:xfrm>
          </p:grpSpPr>
          <p:sp>
            <p:nvSpPr>
              <p:cNvPr id="1300" name="Line 56"/>
              <p:cNvSpPr/>
              <p:nvPr/>
            </p:nvSpPr>
            <p:spPr>
              <a:xfrm>
                <a:off x="2837520" y="225684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2837520" y="225684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2" name="组合 32"/>
          <p:cNvGrpSpPr/>
          <p:nvPr/>
        </p:nvGrpSpPr>
        <p:grpSpPr>
          <a:xfrm>
            <a:off x="5261040" y="1892160"/>
            <a:ext cx="593640" cy="835920"/>
            <a:chOff x="5261040" y="1892160"/>
            <a:chExt cx="593640" cy="835920"/>
          </a:xfrm>
        </p:grpSpPr>
        <p:sp>
          <p:nvSpPr>
            <p:cNvPr id="1303" name="Text Box 54"/>
            <p:cNvSpPr/>
            <p:nvPr/>
          </p:nvSpPr>
          <p:spPr>
            <a:xfrm>
              <a:off x="5261040" y="18921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Text Box 55"/>
            <p:cNvSpPr/>
            <p:nvPr/>
          </p:nvSpPr>
          <p:spPr>
            <a:xfrm>
              <a:off x="5261040" y="23598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5425200" y="2359080"/>
              <a:ext cx="263160" cy="360"/>
              <a:chOff x="5425200" y="2359080"/>
              <a:chExt cx="263160" cy="360"/>
            </a:xfrm>
          </p:grpSpPr>
          <p:sp>
            <p:nvSpPr>
              <p:cNvPr id="1306" name="Line 56"/>
              <p:cNvSpPr/>
              <p:nvPr/>
            </p:nvSpPr>
            <p:spPr>
              <a:xfrm>
                <a:off x="5425200" y="235908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5425200" y="235908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组合 32"/>
          <p:cNvGrpSpPr/>
          <p:nvPr/>
        </p:nvGrpSpPr>
        <p:grpSpPr>
          <a:xfrm>
            <a:off x="7935840" y="1816200"/>
            <a:ext cx="593640" cy="834840"/>
            <a:chOff x="7935840" y="1816200"/>
            <a:chExt cx="593640" cy="834840"/>
          </a:xfrm>
        </p:grpSpPr>
        <p:sp>
          <p:nvSpPr>
            <p:cNvPr id="1309" name="Text Box 54"/>
            <p:cNvSpPr/>
            <p:nvPr/>
          </p:nvSpPr>
          <p:spPr>
            <a:xfrm>
              <a:off x="7935840" y="1816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55"/>
            <p:cNvSpPr/>
            <p:nvPr/>
          </p:nvSpPr>
          <p:spPr>
            <a:xfrm>
              <a:off x="7935840" y="22827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8100000" y="2282400"/>
              <a:ext cx="263160" cy="360"/>
              <a:chOff x="8100000" y="2282400"/>
              <a:chExt cx="263160" cy="360"/>
            </a:xfrm>
          </p:grpSpPr>
          <p:sp>
            <p:nvSpPr>
              <p:cNvPr id="1312" name="Line 56"/>
              <p:cNvSpPr/>
              <p:nvPr/>
            </p:nvSpPr>
            <p:spPr>
              <a:xfrm>
                <a:off x="8100000" y="228240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8100000" y="228240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组合 32"/>
          <p:cNvGrpSpPr/>
          <p:nvPr/>
        </p:nvGrpSpPr>
        <p:grpSpPr>
          <a:xfrm>
            <a:off x="2838600" y="3716280"/>
            <a:ext cx="593640" cy="835560"/>
            <a:chOff x="2838600" y="3716280"/>
            <a:chExt cx="593640" cy="835560"/>
          </a:xfrm>
        </p:grpSpPr>
        <p:sp>
          <p:nvSpPr>
            <p:cNvPr id="1315" name="Text Box 54"/>
            <p:cNvSpPr/>
            <p:nvPr/>
          </p:nvSpPr>
          <p:spPr>
            <a:xfrm>
              <a:off x="2838600" y="3716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55"/>
            <p:cNvSpPr/>
            <p:nvPr/>
          </p:nvSpPr>
          <p:spPr>
            <a:xfrm>
              <a:off x="2838600" y="41835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3002760" y="4183560"/>
              <a:ext cx="263160" cy="360"/>
              <a:chOff x="3002760" y="4183560"/>
              <a:chExt cx="263160" cy="360"/>
            </a:xfrm>
          </p:grpSpPr>
          <p:sp>
            <p:nvSpPr>
              <p:cNvPr id="1318" name="Line 56"/>
              <p:cNvSpPr/>
              <p:nvPr/>
            </p:nvSpPr>
            <p:spPr>
              <a:xfrm>
                <a:off x="3002760" y="418356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3002760" y="418356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组合 32"/>
          <p:cNvGrpSpPr/>
          <p:nvPr/>
        </p:nvGrpSpPr>
        <p:grpSpPr>
          <a:xfrm>
            <a:off x="5477040" y="3689280"/>
            <a:ext cx="593640" cy="835920"/>
            <a:chOff x="5477040" y="3689280"/>
            <a:chExt cx="593640" cy="835920"/>
          </a:xfrm>
        </p:grpSpPr>
        <p:sp>
          <p:nvSpPr>
            <p:cNvPr id="1321" name="Text Box 54"/>
            <p:cNvSpPr/>
            <p:nvPr/>
          </p:nvSpPr>
          <p:spPr>
            <a:xfrm>
              <a:off x="5477040" y="3689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55"/>
            <p:cNvSpPr/>
            <p:nvPr/>
          </p:nvSpPr>
          <p:spPr>
            <a:xfrm>
              <a:off x="5477040" y="41569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5641200" y="4156200"/>
              <a:ext cx="263160" cy="360"/>
              <a:chOff x="5641200" y="4156200"/>
              <a:chExt cx="263160" cy="360"/>
            </a:xfrm>
          </p:grpSpPr>
          <p:sp>
            <p:nvSpPr>
              <p:cNvPr id="1324" name="Line 56"/>
              <p:cNvSpPr/>
              <p:nvPr/>
            </p:nvSpPr>
            <p:spPr>
              <a:xfrm>
                <a:off x="5641200" y="415620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>
                <a:off x="5641200" y="415620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6" name="文本框 102"/>
          <p:cNvSpPr/>
          <p:nvPr/>
        </p:nvSpPr>
        <p:spPr>
          <a:xfrm>
            <a:off x="8099280" y="3909960"/>
            <a:ext cx="55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32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9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330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3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6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7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文本框 1"/>
          <p:cNvSpPr/>
          <p:nvPr/>
        </p:nvSpPr>
        <p:spPr>
          <a:xfrm>
            <a:off x="339840" y="814320"/>
            <a:ext cx="8285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修路队要修好一条公路，已经修好了这条公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组合 32"/>
          <p:cNvGrpSpPr/>
          <p:nvPr/>
        </p:nvGrpSpPr>
        <p:grpSpPr>
          <a:xfrm>
            <a:off x="7176960" y="884160"/>
            <a:ext cx="623880" cy="820440"/>
            <a:chOff x="7176960" y="884160"/>
            <a:chExt cx="623880" cy="820440"/>
          </a:xfrm>
        </p:grpSpPr>
        <p:sp>
          <p:nvSpPr>
            <p:cNvPr id="1340" name="Text Box 54"/>
            <p:cNvSpPr/>
            <p:nvPr/>
          </p:nvSpPr>
          <p:spPr>
            <a:xfrm>
              <a:off x="7176960" y="884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55"/>
            <p:cNvSpPr/>
            <p:nvPr/>
          </p:nvSpPr>
          <p:spPr>
            <a:xfrm>
              <a:off x="7176960" y="1336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7349760" y="1350720"/>
              <a:ext cx="276840" cy="360"/>
              <a:chOff x="7349760" y="1350720"/>
              <a:chExt cx="276840" cy="360"/>
            </a:xfrm>
          </p:grpSpPr>
          <p:sp>
            <p:nvSpPr>
              <p:cNvPr id="1343" name="Line 56"/>
              <p:cNvSpPr/>
              <p:nvPr/>
            </p:nvSpPr>
            <p:spPr>
              <a:xfrm>
                <a:off x="7349760" y="1350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7349760" y="1350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5" name="文本框 3"/>
          <p:cNvSpPr/>
          <p:nvPr/>
        </p:nvSpPr>
        <p:spPr>
          <a:xfrm>
            <a:off x="7875720" y="1168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4"/>
          <p:cNvSpPr/>
          <p:nvPr/>
        </p:nvSpPr>
        <p:spPr>
          <a:xfrm>
            <a:off x="523800" y="1665360"/>
            <a:ext cx="73519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还剩几分之几没修好？修好的比没修好的多几分之几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组合 17"/>
          <p:cNvGrpSpPr/>
          <p:nvPr/>
        </p:nvGrpSpPr>
        <p:grpSpPr>
          <a:xfrm>
            <a:off x="2444760" y="2421000"/>
            <a:ext cx="3430440" cy="991080"/>
            <a:chOff x="2444760" y="2421000"/>
            <a:chExt cx="3430440" cy="991080"/>
          </a:xfrm>
        </p:grpSpPr>
        <p:sp>
          <p:nvSpPr>
            <p:cNvPr id="1348" name="文本框 102"/>
            <p:cNvSpPr/>
            <p:nvPr/>
          </p:nvSpPr>
          <p:spPr>
            <a:xfrm>
              <a:off x="2444760" y="2651400"/>
              <a:ext cx="55152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文本框 6"/>
            <p:cNvSpPr/>
            <p:nvPr/>
          </p:nvSpPr>
          <p:spPr>
            <a:xfrm>
              <a:off x="2844720" y="2645640"/>
              <a:ext cx="1043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组合 32"/>
            <p:cNvGrpSpPr/>
            <p:nvPr/>
          </p:nvGrpSpPr>
          <p:grpSpPr>
            <a:xfrm>
              <a:off x="3276360" y="2439360"/>
              <a:ext cx="1036080" cy="972720"/>
              <a:chOff x="3276360" y="2439360"/>
              <a:chExt cx="1036080" cy="972720"/>
            </a:xfrm>
          </p:grpSpPr>
          <p:sp>
            <p:nvSpPr>
              <p:cNvPr id="1351" name="Text Box 54"/>
              <p:cNvSpPr/>
              <p:nvPr/>
            </p:nvSpPr>
            <p:spPr>
              <a:xfrm>
                <a:off x="3276360" y="243936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Text Box 55"/>
              <p:cNvSpPr/>
              <p:nvPr/>
            </p:nvSpPr>
            <p:spPr>
              <a:xfrm>
                <a:off x="3276360" y="28915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3563280" y="2906280"/>
                <a:ext cx="459720" cy="360"/>
                <a:chOff x="3563280" y="2906280"/>
                <a:chExt cx="459720" cy="360"/>
              </a:xfrm>
            </p:grpSpPr>
            <p:sp>
              <p:nvSpPr>
                <p:cNvPr id="1354" name="Line 56"/>
                <p:cNvSpPr/>
                <p:nvPr/>
              </p:nvSpPr>
              <p:spPr>
                <a:xfrm>
                  <a:off x="3563280" y="29062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 txBox="1"/>
                <p:nvPr/>
              </p:nvSpPr>
              <p:spPr>
                <a:xfrm>
                  <a:off x="3563280" y="29062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6" name="组合 32"/>
            <p:cNvGrpSpPr/>
            <p:nvPr/>
          </p:nvGrpSpPr>
          <p:grpSpPr>
            <a:xfrm>
              <a:off x="4839120" y="2421000"/>
              <a:ext cx="1036080" cy="972720"/>
              <a:chOff x="4839120" y="2421000"/>
              <a:chExt cx="1036080" cy="972720"/>
            </a:xfrm>
          </p:grpSpPr>
          <p:sp>
            <p:nvSpPr>
              <p:cNvPr id="1357" name="Text Box 54"/>
              <p:cNvSpPr/>
              <p:nvPr/>
            </p:nvSpPr>
            <p:spPr>
              <a:xfrm>
                <a:off x="4839120" y="242100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Text Box 55"/>
              <p:cNvSpPr/>
              <p:nvPr/>
            </p:nvSpPr>
            <p:spPr>
              <a:xfrm>
                <a:off x="4839120" y="287316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9" name=""/>
              <p:cNvGrpSpPr/>
              <p:nvPr/>
            </p:nvGrpSpPr>
            <p:grpSpPr>
              <a:xfrm>
                <a:off x="5126040" y="2887920"/>
                <a:ext cx="459720" cy="360"/>
                <a:chOff x="5126040" y="2887920"/>
                <a:chExt cx="459720" cy="360"/>
              </a:xfrm>
            </p:grpSpPr>
            <p:sp>
              <p:nvSpPr>
                <p:cNvPr id="1360" name="Line 56"/>
                <p:cNvSpPr/>
                <p:nvPr/>
              </p:nvSpPr>
              <p:spPr>
                <a:xfrm>
                  <a:off x="5126040" y="288792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 txBox="1"/>
                <p:nvPr/>
              </p:nvSpPr>
              <p:spPr>
                <a:xfrm>
                  <a:off x="5126040" y="288792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2" name="文本框 16"/>
            <p:cNvSpPr/>
            <p:nvPr/>
          </p:nvSpPr>
          <p:spPr>
            <a:xfrm>
              <a:off x="4312440" y="2720880"/>
              <a:ext cx="9165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组合 40"/>
          <p:cNvGrpSpPr/>
          <p:nvPr/>
        </p:nvGrpSpPr>
        <p:grpSpPr>
          <a:xfrm>
            <a:off x="2049480" y="3652920"/>
            <a:ext cx="3824280" cy="972360"/>
            <a:chOff x="2049480" y="3652920"/>
            <a:chExt cx="3824280" cy="972360"/>
          </a:xfrm>
        </p:grpSpPr>
        <p:sp>
          <p:nvSpPr>
            <p:cNvPr id="1364" name="文本框 20"/>
            <p:cNvSpPr/>
            <p:nvPr/>
          </p:nvSpPr>
          <p:spPr>
            <a:xfrm>
              <a:off x="2843640" y="3859200"/>
              <a:ext cx="1044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组合 32"/>
            <p:cNvGrpSpPr/>
            <p:nvPr/>
          </p:nvGrpSpPr>
          <p:grpSpPr>
            <a:xfrm>
              <a:off x="3275640" y="3652920"/>
              <a:ext cx="1036080" cy="972360"/>
              <a:chOff x="3275640" y="3652920"/>
              <a:chExt cx="1036080" cy="972360"/>
            </a:xfrm>
          </p:grpSpPr>
          <p:sp>
            <p:nvSpPr>
              <p:cNvPr id="1366" name="Text Box 54"/>
              <p:cNvSpPr/>
              <p:nvPr/>
            </p:nvSpPr>
            <p:spPr>
              <a:xfrm>
                <a:off x="3275640" y="36529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55"/>
              <p:cNvSpPr/>
              <p:nvPr/>
            </p:nvSpPr>
            <p:spPr>
              <a:xfrm>
                <a:off x="3275640" y="41047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3562560" y="4119480"/>
                <a:ext cx="459720" cy="360"/>
                <a:chOff x="3562560" y="4119480"/>
                <a:chExt cx="459720" cy="360"/>
              </a:xfrm>
            </p:grpSpPr>
            <p:sp>
              <p:nvSpPr>
                <p:cNvPr id="1369" name="Line 56"/>
                <p:cNvSpPr/>
                <p:nvPr/>
              </p:nvSpPr>
              <p:spPr>
                <a:xfrm>
                  <a:off x="356256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>
                  <a:off x="356256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组合 32"/>
            <p:cNvGrpSpPr/>
            <p:nvPr/>
          </p:nvGrpSpPr>
          <p:grpSpPr>
            <a:xfrm>
              <a:off x="4837320" y="3652920"/>
              <a:ext cx="1036440" cy="972360"/>
              <a:chOff x="4837320" y="3652920"/>
              <a:chExt cx="1036440" cy="972360"/>
            </a:xfrm>
          </p:grpSpPr>
          <p:sp>
            <p:nvSpPr>
              <p:cNvPr id="1372" name="Text Box 54"/>
              <p:cNvSpPr/>
              <p:nvPr/>
            </p:nvSpPr>
            <p:spPr>
              <a:xfrm>
                <a:off x="4837320" y="3652920"/>
                <a:ext cx="103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Text Box 55"/>
              <p:cNvSpPr/>
              <p:nvPr/>
            </p:nvSpPr>
            <p:spPr>
              <a:xfrm>
                <a:off x="4837320" y="4104720"/>
                <a:ext cx="103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5124240" y="4119480"/>
                <a:ext cx="459720" cy="360"/>
                <a:chOff x="5124240" y="4119480"/>
                <a:chExt cx="459720" cy="360"/>
              </a:xfrm>
            </p:grpSpPr>
            <p:sp>
              <p:nvSpPr>
                <p:cNvPr id="1375" name="Line 56"/>
                <p:cNvSpPr/>
                <p:nvPr/>
              </p:nvSpPr>
              <p:spPr>
                <a:xfrm>
                  <a:off x="512424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 txBox="1"/>
                <p:nvPr/>
              </p:nvSpPr>
              <p:spPr>
                <a:xfrm>
                  <a:off x="512424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7" name="文本框 35"/>
            <p:cNvSpPr/>
            <p:nvPr/>
          </p:nvSpPr>
          <p:spPr>
            <a:xfrm>
              <a:off x="4312080" y="3934080"/>
              <a:ext cx="91692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8" name="组合 32"/>
            <p:cNvGrpSpPr/>
            <p:nvPr/>
          </p:nvGrpSpPr>
          <p:grpSpPr>
            <a:xfrm>
              <a:off x="2049480" y="3652920"/>
              <a:ext cx="1036080" cy="972360"/>
              <a:chOff x="2049480" y="3652920"/>
              <a:chExt cx="1036080" cy="972360"/>
            </a:xfrm>
          </p:grpSpPr>
          <p:sp>
            <p:nvSpPr>
              <p:cNvPr id="1379" name="Text Box 54"/>
              <p:cNvSpPr/>
              <p:nvPr/>
            </p:nvSpPr>
            <p:spPr>
              <a:xfrm>
                <a:off x="2049480" y="36529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55"/>
              <p:cNvSpPr/>
              <p:nvPr/>
            </p:nvSpPr>
            <p:spPr>
              <a:xfrm>
                <a:off x="2049480" y="41047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2336400" y="4119480"/>
                <a:ext cx="459720" cy="360"/>
                <a:chOff x="2336400" y="4119480"/>
                <a:chExt cx="459720" cy="360"/>
              </a:xfrm>
            </p:grpSpPr>
            <p:sp>
              <p:nvSpPr>
                <p:cNvPr id="1382" name="Line 56"/>
                <p:cNvSpPr/>
                <p:nvPr/>
              </p:nvSpPr>
              <p:spPr>
                <a:xfrm>
                  <a:off x="233640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 txBox="1"/>
                <p:nvPr/>
              </p:nvSpPr>
              <p:spPr>
                <a:xfrm>
                  <a:off x="233640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4" name="组合 10"/>
          <p:cNvGrpSpPr/>
          <p:nvPr/>
        </p:nvGrpSpPr>
        <p:grpSpPr>
          <a:xfrm>
            <a:off x="892080" y="4622760"/>
            <a:ext cx="7918560" cy="1048320"/>
            <a:chOff x="892080" y="4622760"/>
            <a:chExt cx="7918560" cy="1048320"/>
          </a:xfrm>
        </p:grpSpPr>
        <p:sp>
          <p:nvSpPr>
            <p:cNvPr id="1385" name="文本框 41"/>
            <p:cNvSpPr/>
            <p:nvPr/>
          </p:nvSpPr>
          <p:spPr>
            <a:xfrm>
              <a:off x="892080" y="4813200"/>
              <a:ext cx="79185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还剩   没修好，修好的比没修好的多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组合 32"/>
            <p:cNvGrpSpPr/>
            <p:nvPr/>
          </p:nvGrpSpPr>
          <p:grpSpPr>
            <a:xfrm>
              <a:off x="2163240" y="4622760"/>
              <a:ext cx="1013760" cy="962640"/>
              <a:chOff x="2163240" y="4622760"/>
              <a:chExt cx="1013760" cy="962640"/>
            </a:xfrm>
          </p:grpSpPr>
          <p:sp>
            <p:nvSpPr>
              <p:cNvPr id="1387" name="Text Box 54"/>
              <p:cNvSpPr/>
              <p:nvPr/>
            </p:nvSpPr>
            <p:spPr>
              <a:xfrm>
                <a:off x="2163240" y="4622760"/>
                <a:ext cx="101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Text Box 55"/>
              <p:cNvSpPr/>
              <p:nvPr/>
            </p:nvSpPr>
            <p:spPr>
              <a:xfrm>
                <a:off x="2163240" y="5064840"/>
                <a:ext cx="101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9" name=""/>
              <p:cNvGrpSpPr/>
              <p:nvPr/>
            </p:nvGrpSpPr>
            <p:grpSpPr>
              <a:xfrm>
                <a:off x="2444040" y="5079240"/>
                <a:ext cx="449640" cy="360"/>
                <a:chOff x="2444040" y="5079240"/>
                <a:chExt cx="449640" cy="360"/>
              </a:xfrm>
            </p:grpSpPr>
            <p:sp>
              <p:nvSpPr>
                <p:cNvPr id="1390" name="Line 56"/>
                <p:cNvSpPr/>
                <p:nvPr/>
              </p:nvSpPr>
              <p:spPr>
                <a:xfrm>
                  <a:off x="2444040" y="5079240"/>
                  <a:ext cx="449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 txBox="1"/>
                <p:nvPr/>
              </p:nvSpPr>
              <p:spPr>
                <a:xfrm>
                  <a:off x="2444040" y="5079240"/>
                  <a:ext cx="44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组合 32"/>
            <p:cNvGrpSpPr/>
            <p:nvPr/>
          </p:nvGrpSpPr>
          <p:grpSpPr>
            <a:xfrm>
              <a:off x="7421040" y="4698720"/>
              <a:ext cx="1014120" cy="972360"/>
              <a:chOff x="7421040" y="4698720"/>
              <a:chExt cx="1014120" cy="972360"/>
            </a:xfrm>
          </p:grpSpPr>
          <p:sp>
            <p:nvSpPr>
              <p:cNvPr id="1393" name="Text Box 54"/>
              <p:cNvSpPr/>
              <p:nvPr/>
            </p:nvSpPr>
            <p:spPr>
              <a:xfrm>
                <a:off x="7421040" y="4698720"/>
                <a:ext cx="101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Text Box 55"/>
              <p:cNvSpPr/>
              <p:nvPr/>
            </p:nvSpPr>
            <p:spPr>
              <a:xfrm>
                <a:off x="7421040" y="5150520"/>
                <a:ext cx="101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"/>
              <p:cNvGrpSpPr/>
              <p:nvPr/>
            </p:nvGrpSpPr>
            <p:grpSpPr>
              <a:xfrm>
                <a:off x="7701840" y="5165280"/>
                <a:ext cx="450000" cy="360"/>
                <a:chOff x="7701840" y="5165280"/>
                <a:chExt cx="450000" cy="360"/>
              </a:xfrm>
            </p:grpSpPr>
            <p:sp>
              <p:nvSpPr>
                <p:cNvPr id="1396" name="Line 56"/>
                <p:cNvSpPr/>
                <p:nvPr/>
              </p:nvSpPr>
              <p:spPr>
                <a:xfrm>
                  <a:off x="7701840" y="5165280"/>
                  <a:ext cx="450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 txBox="1"/>
                <p:nvPr/>
              </p:nvSpPr>
              <p:spPr>
                <a:xfrm>
                  <a:off x="7701840" y="5165280"/>
                  <a:ext cx="45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8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3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0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401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7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文本框 1"/>
          <p:cNvSpPr/>
          <p:nvPr/>
        </p:nvSpPr>
        <p:spPr>
          <a:xfrm>
            <a:off x="387360" y="604800"/>
            <a:ext cx="8128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（   ）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组合 32"/>
          <p:cNvGrpSpPr/>
          <p:nvPr/>
        </p:nvGrpSpPr>
        <p:grpSpPr>
          <a:xfrm>
            <a:off x="963720" y="4533840"/>
            <a:ext cx="957240" cy="831600"/>
            <a:chOff x="963720" y="4533840"/>
            <a:chExt cx="957240" cy="831600"/>
          </a:xfrm>
        </p:grpSpPr>
        <p:sp>
          <p:nvSpPr>
            <p:cNvPr id="1411" name="Text Box 54"/>
            <p:cNvSpPr/>
            <p:nvPr/>
          </p:nvSpPr>
          <p:spPr>
            <a:xfrm>
              <a:off x="963720" y="45338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55"/>
            <p:cNvSpPr/>
            <p:nvPr/>
          </p:nvSpPr>
          <p:spPr>
            <a:xfrm>
              <a:off x="963720" y="499716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1228680" y="5011920"/>
              <a:ext cx="424800" cy="360"/>
              <a:chOff x="1228680" y="5011920"/>
              <a:chExt cx="424800" cy="360"/>
            </a:xfrm>
          </p:grpSpPr>
          <p:sp>
            <p:nvSpPr>
              <p:cNvPr id="1414" name="Line 56"/>
              <p:cNvSpPr/>
              <p:nvPr/>
            </p:nvSpPr>
            <p:spPr>
              <a:xfrm>
                <a:off x="1228680" y="501192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 txBox="1"/>
              <p:nvPr/>
            </p:nvSpPr>
            <p:spPr>
              <a:xfrm>
                <a:off x="1228680" y="501192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6" name="组合 32"/>
          <p:cNvGrpSpPr/>
          <p:nvPr/>
        </p:nvGrpSpPr>
        <p:grpSpPr>
          <a:xfrm>
            <a:off x="4335480" y="1906560"/>
            <a:ext cx="955800" cy="832320"/>
            <a:chOff x="4335480" y="1906560"/>
            <a:chExt cx="955800" cy="832320"/>
          </a:xfrm>
        </p:grpSpPr>
        <p:sp>
          <p:nvSpPr>
            <p:cNvPr id="1417" name="Text Box 54"/>
            <p:cNvSpPr/>
            <p:nvPr/>
          </p:nvSpPr>
          <p:spPr>
            <a:xfrm>
              <a:off x="4335480" y="190656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55"/>
            <p:cNvSpPr/>
            <p:nvPr/>
          </p:nvSpPr>
          <p:spPr>
            <a:xfrm>
              <a:off x="4335480" y="237060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4600080" y="2385360"/>
              <a:ext cx="424080" cy="360"/>
              <a:chOff x="4600080" y="2385360"/>
              <a:chExt cx="424080" cy="360"/>
            </a:xfrm>
          </p:grpSpPr>
          <p:sp>
            <p:nvSpPr>
              <p:cNvPr id="1420" name="Line 56"/>
              <p:cNvSpPr/>
              <p:nvPr/>
            </p:nvSpPr>
            <p:spPr>
              <a:xfrm>
                <a:off x="4600080" y="2385360"/>
                <a:ext cx="42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 txBox="1"/>
              <p:nvPr/>
            </p:nvSpPr>
            <p:spPr>
              <a:xfrm>
                <a:off x="4600080" y="2385360"/>
                <a:ext cx="4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2" name="组合 32"/>
          <p:cNvGrpSpPr/>
          <p:nvPr/>
        </p:nvGrpSpPr>
        <p:grpSpPr>
          <a:xfrm>
            <a:off x="2117880" y="1906560"/>
            <a:ext cx="955440" cy="832320"/>
            <a:chOff x="2117880" y="1906560"/>
            <a:chExt cx="955440" cy="832320"/>
          </a:xfrm>
        </p:grpSpPr>
        <p:sp>
          <p:nvSpPr>
            <p:cNvPr id="1423" name="Text Box 54"/>
            <p:cNvSpPr/>
            <p:nvPr/>
          </p:nvSpPr>
          <p:spPr>
            <a:xfrm>
              <a:off x="2117880" y="190656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Text Box 55"/>
            <p:cNvSpPr/>
            <p:nvPr/>
          </p:nvSpPr>
          <p:spPr>
            <a:xfrm>
              <a:off x="2117880" y="237060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2382480" y="2385360"/>
              <a:ext cx="423720" cy="360"/>
              <a:chOff x="2382480" y="2385360"/>
              <a:chExt cx="423720" cy="360"/>
            </a:xfrm>
          </p:grpSpPr>
          <p:sp>
            <p:nvSpPr>
              <p:cNvPr id="1426" name="Line 56"/>
              <p:cNvSpPr/>
              <p:nvPr/>
            </p:nvSpPr>
            <p:spPr>
              <a:xfrm>
                <a:off x="2382480" y="2385360"/>
                <a:ext cx="42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>
                <a:off x="2382480" y="2385360"/>
                <a:ext cx="42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8" name="组合 32"/>
          <p:cNvGrpSpPr/>
          <p:nvPr/>
        </p:nvGrpSpPr>
        <p:grpSpPr>
          <a:xfrm>
            <a:off x="3267000" y="1913040"/>
            <a:ext cx="957240" cy="832320"/>
            <a:chOff x="3267000" y="1913040"/>
            <a:chExt cx="957240" cy="832320"/>
          </a:xfrm>
        </p:grpSpPr>
        <p:sp>
          <p:nvSpPr>
            <p:cNvPr id="1429" name="Text Box 54"/>
            <p:cNvSpPr/>
            <p:nvPr/>
          </p:nvSpPr>
          <p:spPr>
            <a:xfrm>
              <a:off x="3267000" y="1913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55"/>
            <p:cNvSpPr/>
            <p:nvPr/>
          </p:nvSpPr>
          <p:spPr>
            <a:xfrm>
              <a:off x="3267000" y="237708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3531960" y="2391840"/>
              <a:ext cx="424800" cy="360"/>
              <a:chOff x="3531960" y="2391840"/>
              <a:chExt cx="424800" cy="360"/>
            </a:xfrm>
          </p:grpSpPr>
          <p:sp>
            <p:nvSpPr>
              <p:cNvPr id="1432" name="Line 56"/>
              <p:cNvSpPr/>
              <p:nvPr/>
            </p:nvSpPr>
            <p:spPr>
              <a:xfrm>
                <a:off x="3531960" y="239184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>
                <a:off x="3531960" y="239184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4" name="文本框 17"/>
          <p:cNvSpPr/>
          <p:nvPr/>
        </p:nvSpPr>
        <p:spPr>
          <a:xfrm>
            <a:off x="5024520" y="2033640"/>
            <a:ext cx="666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组合 32"/>
          <p:cNvGrpSpPr/>
          <p:nvPr/>
        </p:nvGrpSpPr>
        <p:grpSpPr>
          <a:xfrm>
            <a:off x="5291280" y="1924200"/>
            <a:ext cx="623880" cy="821160"/>
            <a:chOff x="5291280" y="1924200"/>
            <a:chExt cx="623880" cy="821160"/>
          </a:xfrm>
        </p:grpSpPr>
        <p:sp>
          <p:nvSpPr>
            <p:cNvPr id="1436" name="Text Box 54"/>
            <p:cNvSpPr/>
            <p:nvPr/>
          </p:nvSpPr>
          <p:spPr>
            <a:xfrm>
              <a:off x="5291280" y="1924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5"/>
            <p:cNvSpPr/>
            <p:nvPr/>
          </p:nvSpPr>
          <p:spPr>
            <a:xfrm>
              <a:off x="5291280" y="2377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5464080" y="2391840"/>
              <a:ext cx="276840" cy="360"/>
              <a:chOff x="5464080" y="2391840"/>
              <a:chExt cx="276840" cy="360"/>
            </a:xfrm>
          </p:grpSpPr>
          <p:sp>
            <p:nvSpPr>
              <p:cNvPr id="1439" name="Line 56"/>
              <p:cNvSpPr/>
              <p:nvPr/>
            </p:nvSpPr>
            <p:spPr>
              <a:xfrm>
                <a:off x="5464080" y="23918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5464080" y="23918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1" name="文本框 22"/>
          <p:cNvSpPr/>
          <p:nvPr/>
        </p:nvSpPr>
        <p:spPr>
          <a:xfrm>
            <a:off x="1655640" y="1906560"/>
            <a:ext cx="46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文本框 27"/>
          <p:cNvSpPr/>
          <p:nvPr/>
        </p:nvSpPr>
        <p:spPr>
          <a:xfrm>
            <a:off x="2906640" y="190656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28"/>
          <p:cNvSpPr/>
          <p:nvPr/>
        </p:nvSpPr>
        <p:spPr>
          <a:xfrm>
            <a:off x="4102200" y="1913040"/>
            <a:ext cx="46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组合 32"/>
          <p:cNvGrpSpPr/>
          <p:nvPr/>
        </p:nvGrpSpPr>
        <p:grpSpPr>
          <a:xfrm>
            <a:off x="928800" y="3218040"/>
            <a:ext cx="957240" cy="831240"/>
            <a:chOff x="928800" y="3218040"/>
            <a:chExt cx="957240" cy="831240"/>
          </a:xfrm>
        </p:grpSpPr>
        <p:sp>
          <p:nvSpPr>
            <p:cNvPr id="1445" name="Text Box 54"/>
            <p:cNvSpPr/>
            <p:nvPr/>
          </p:nvSpPr>
          <p:spPr>
            <a:xfrm>
              <a:off x="928800" y="3218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55"/>
            <p:cNvSpPr/>
            <p:nvPr/>
          </p:nvSpPr>
          <p:spPr>
            <a:xfrm>
              <a:off x="928800" y="36810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1193760" y="3695760"/>
              <a:ext cx="424800" cy="360"/>
              <a:chOff x="1193760" y="3695760"/>
              <a:chExt cx="424800" cy="360"/>
            </a:xfrm>
          </p:grpSpPr>
          <p:sp>
            <p:nvSpPr>
              <p:cNvPr id="1448" name="Line 56"/>
              <p:cNvSpPr/>
              <p:nvPr/>
            </p:nvSpPr>
            <p:spPr>
              <a:xfrm>
                <a:off x="1193760" y="36957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 txBox="1"/>
              <p:nvPr/>
            </p:nvSpPr>
            <p:spPr>
              <a:xfrm>
                <a:off x="1193760" y="36957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0" name="组合 32"/>
          <p:cNvGrpSpPr/>
          <p:nvPr/>
        </p:nvGrpSpPr>
        <p:grpSpPr>
          <a:xfrm>
            <a:off x="2116080" y="3218040"/>
            <a:ext cx="957240" cy="831240"/>
            <a:chOff x="2116080" y="3218040"/>
            <a:chExt cx="957240" cy="831240"/>
          </a:xfrm>
        </p:grpSpPr>
        <p:sp>
          <p:nvSpPr>
            <p:cNvPr id="1451" name="Text Box 54"/>
            <p:cNvSpPr/>
            <p:nvPr/>
          </p:nvSpPr>
          <p:spPr>
            <a:xfrm>
              <a:off x="2116080" y="3218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55"/>
            <p:cNvSpPr/>
            <p:nvPr/>
          </p:nvSpPr>
          <p:spPr>
            <a:xfrm>
              <a:off x="2116080" y="36810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2381040" y="3695760"/>
              <a:ext cx="424800" cy="360"/>
              <a:chOff x="2381040" y="3695760"/>
              <a:chExt cx="424800" cy="360"/>
            </a:xfrm>
          </p:grpSpPr>
          <p:sp>
            <p:nvSpPr>
              <p:cNvPr id="1454" name="Line 56"/>
              <p:cNvSpPr/>
              <p:nvPr/>
            </p:nvSpPr>
            <p:spPr>
              <a:xfrm>
                <a:off x="2381040" y="36957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 txBox="1"/>
              <p:nvPr/>
            </p:nvSpPr>
            <p:spPr>
              <a:xfrm>
                <a:off x="2381040" y="36957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6" name="组合 32"/>
          <p:cNvGrpSpPr/>
          <p:nvPr/>
        </p:nvGrpSpPr>
        <p:grpSpPr>
          <a:xfrm>
            <a:off x="3146400" y="3218040"/>
            <a:ext cx="955800" cy="831240"/>
            <a:chOff x="3146400" y="3218040"/>
            <a:chExt cx="955800" cy="831240"/>
          </a:xfrm>
        </p:grpSpPr>
        <p:sp>
          <p:nvSpPr>
            <p:cNvPr id="1457" name="Text Box 54"/>
            <p:cNvSpPr/>
            <p:nvPr/>
          </p:nvSpPr>
          <p:spPr>
            <a:xfrm>
              <a:off x="3146400" y="321804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55"/>
            <p:cNvSpPr/>
            <p:nvPr/>
          </p:nvSpPr>
          <p:spPr>
            <a:xfrm>
              <a:off x="3146400" y="368100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9" name=""/>
            <p:cNvGrpSpPr/>
            <p:nvPr/>
          </p:nvGrpSpPr>
          <p:grpSpPr>
            <a:xfrm>
              <a:off x="3411000" y="3695760"/>
              <a:ext cx="424080" cy="360"/>
              <a:chOff x="3411000" y="3695760"/>
              <a:chExt cx="424080" cy="360"/>
            </a:xfrm>
          </p:grpSpPr>
          <p:sp>
            <p:nvSpPr>
              <p:cNvPr id="1460" name="Line 56"/>
              <p:cNvSpPr/>
              <p:nvPr/>
            </p:nvSpPr>
            <p:spPr>
              <a:xfrm>
                <a:off x="3411000" y="3695760"/>
                <a:ext cx="42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 txBox="1"/>
              <p:nvPr/>
            </p:nvSpPr>
            <p:spPr>
              <a:xfrm>
                <a:off x="3411000" y="3695760"/>
                <a:ext cx="4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2" name="组合 32"/>
          <p:cNvGrpSpPr/>
          <p:nvPr/>
        </p:nvGrpSpPr>
        <p:grpSpPr>
          <a:xfrm>
            <a:off x="963720" y="1819440"/>
            <a:ext cx="957240" cy="831240"/>
            <a:chOff x="963720" y="1819440"/>
            <a:chExt cx="957240" cy="831240"/>
          </a:xfrm>
        </p:grpSpPr>
        <p:sp>
          <p:nvSpPr>
            <p:cNvPr id="1463" name="Text Box 54"/>
            <p:cNvSpPr/>
            <p:nvPr/>
          </p:nvSpPr>
          <p:spPr>
            <a:xfrm>
              <a:off x="963720" y="18194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55"/>
            <p:cNvSpPr/>
            <p:nvPr/>
          </p:nvSpPr>
          <p:spPr>
            <a:xfrm>
              <a:off x="963720" y="22824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1228680" y="2297160"/>
              <a:ext cx="424800" cy="360"/>
              <a:chOff x="1228680" y="2297160"/>
              <a:chExt cx="424800" cy="360"/>
            </a:xfrm>
          </p:grpSpPr>
          <p:sp>
            <p:nvSpPr>
              <p:cNvPr id="1466" name="Line 56"/>
              <p:cNvSpPr/>
              <p:nvPr/>
            </p:nvSpPr>
            <p:spPr>
              <a:xfrm>
                <a:off x="1228680" y="22971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 txBox="1"/>
              <p:nvPr/>
            </p:nvSpPr>
            <p:spPr>
              <a:xfrm>
                <a:off x="1228680" y="22971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8" name="文本框 52"/>
          <p:cNvSpPr/>
          <p:nvPr/>
        </p:nvSpPr>
        <p:spPr>
          <a:xfrm>
            <a:off x="2906640" y="330516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文本框 53"/>
          <p:cNvSpPr/>
          <p:nvPr/>
        </p:nvSpPr>
        <p:spPr>
          <a:xfrm>
            <a:off x="3956040" y="3305160"/>
            <a:ext cx="668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组合 32"/>
          <p:cNvGrpSpPr/>
          <p:nvPr/>
        </p:nvGrpSpPr>
        <p:grpSpPr>
          <a:xfrm>
            <a:off x="4260960" y="3191040"/>
            <a:ext cx="622080" cy="820440"/>
            <a:chOff x="4260960" y="3191040"/>
            <a:chExt cx="622080" cy="820440"/>
          </a:xfrm>
        </p:grpSpPr>
        <p:sp>
          <p:nvSpPr>
            <p:cNvPr id="1471" name="Text Box 54"/>
            <p:cNvSpPr/>
            <p:nvPr/>
          </p:nvSpPr>
          <p:spPr>
            <a:xfrm>
              <a:off x="4260960" y="319104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55"/>
            <p:cNvSpPr/>
            <p:nvPr/>
          </p:nvSpPr>
          <p:spPr>
            <a:xfrm>
              <a:off x="4260960" y="364320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4433040" y="3657600"/>
              <a:ext cx="276120" cy="360"/>
              <a:chOff x="4433040" y="3657600"/>
              <a:chExt cx="276120" cy="360"/>
            </a:xfrm>
          </p:grpSpPr>
          <p:sp>
            <p:nvSpPr>
              <p:cNvPr id="1474" name="Line 56"/>
              <p:cNvSpPr/>
              <p:nvPr/>
            </p:nvSpPr>
            <p:spPr>
              <a:xfrm>
                <a:off x="4433040" y="3657600"/>
                <a:ext cx="27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 txBox="1"/>
              <p:nvPr/>
            </p:nvSpPr>
            <p:spPr>
              <a:xfrm>
                <a:off x="4433040" y="365760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6" name="组合 32"/>
          <p:cNvGrpSpPr/>
          <p:nvPr/>
        </p:nvGrpSpPr>
        <p:grpSpPr>
          <a:xfrm>
            <a:off x="2381400" y="4533840"/>
            <a:ext cx="955440" cy="831600"/>
            <a:chOff x="2381400" y="4533840"/>
            <a:chExt cx="955440" cy="831600"/>
          </a:xfrm>
        </p:grpSpPr>
        <p:sp>
          <p:nvSpPr>
            <p:cNvPr id="1477" name="Text Box 54"/>
            <p:cNvSpPr/>
            <p:nvPr/>
          </p:nvSpPr>
          <p:spPr>
            <a:xfrm>
              <a:off x="2381400" y="453384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55"/>
            <p:cNvSpPr/>
            <p:nvPr/>
          </p:nvSpPr>
          <p:spPr>
            <a:xfrm>
              <a:off x="2381400" y="499716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2646000" y="5011920"/>
              <a:ext cx="423720" cy="360"/>
              <a:chOff x="2646000" y="5011920"/>
              <a:chExt cx="423720" cy="360"/>
            </a:xfrm>
          </p:grpSpPr>
          <p:sp>
            <p:nvSpPr>
              <p:cNvPr id="1480" name="Line 56"/>
              <p:cNvSpPr/>
              <p:nvPr/>
            </p:nvSpPr>
            <p:spPr>
              <a:xfrm>
                <a:off x="2646000" y="5011920"/>
                <a:ext cx="42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>
                <a:off x="2646000" y="5011920"/>
                <a:ext cx="42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2" name="文本框 63"/>
          <p:cNvSpPr/>
          <p:nvPr/>
        </p:nvSpPr>
        <p:spPr>
          <a:xfrm>
            <a:off x="1920960" y="4619520"/>
            <a:ext cx="46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64"/>
          <p:cNvSpPr/>
          <p:nvPr/>
        </p:nvSpPr>
        <p:spPr>
          <a:xfrm>
            <a:off x="1839960" y="333684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65"/>
          <p:cNvSpPr/>
          <p:nvPr/>
        </p:nvSpPr>
        <p:spPr>
          <a:xfrm>
            <a:off x="3336840" y="4718160"/>
            <a:ext cx="668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32"/>
          <p:cNvGrpSpPr/>
          <p:nvPr/>
        </p:nvGrpSpPr>
        <p:grpSpPr>
          <a:xfrm>
            <a:off x="3711600" y="4533840"/>
            <a:ext cx="623880" cy="820440"/>
            <a:chOff x="3711600" y="4533840"/>
            <a:chExt cx="623880" cy="820440"/>
          </a:xfrm>
        </p:grpSpPr>
        <p:sp>
          <p:nvSpPr>
            <p:cNvPr id="1486" name="Text Box 54"/>
            <p:cNvSpPr/>
            <p:nvPr/>
          </p:nvSpPr>
          <p:spPr>
            <a:xfrm>
              <a:off x="3711600" y="4533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 Box 55"/>
            <p:cNvSpPr/>
            <p:nvPr/>
          </p:nvSpPr>
          <p:spPr>
            <a:xfrm>
              <a:off x="3711600" y="4986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884400" y="5000400"/>
              <a:ext cx="276840" cy="360"/>
              <a:chOff x="3884400" y="5000400"/>
              <a:chExt cx="276840" cy="360"/>
            </a:xfrm>
          </p:grpSpPr>
          <p:sp>
            <p:nvSpPr>
              <p:cNvPr id="1489" name="Line 56"/>
              <p:cNvSpPr/>
              <p:nvPr/>
            </p:nvSpPr>
            <p:spPr>
              <a:xfrm>
                <a:off x="3884400" y="5000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3884400" y="5000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1" name="文本框 70"/>
          <p:cNvSpPr/>
          <p:nvPr/>
        </p:nvSpPr>
        <p:spPr>
          <a:xfrm>
            <a:off x="1241280" y="1727280"/>
            <a:ext cx="398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75"/>
          <p:cNvSpPr/>
          <p:nvPr/>
        </p:nvSpPr>
        <p:spPr>
          <a:xfrm>
            <a:off x="2406600" y="1752480"/>
            <a:ext cx="399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文本框 76"/>
          <p:cNvSpPr/>
          <p:nvPr/>
        </p:nvSpPr>
        <p:spPr>
          <a:xfrm>
            <a:off x="3532320" y="176220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77"/>
          <p:cNvSpPr/>
          <p:nvPr/>
        </p:nvSpPr>
        <p:spPr>
          <a:xfrm>
            <a:off x="4611600" y="173052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文本框 78"/>
          <p:cNvSpPr/>
          <p:nvPr/>
        </p:nvSpPr>
        <p:spPr>
          <a:xfrm>
            <a:off x="1244520" y="303228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79"/>
          <p:cNvSpPr/>
          <p:nvPr/>
        </p:nvSpPr>
        <p:spPr>
          <a:xfrm>
            <a:off x="3425760" y="3065400"/>
            <a:ext cx="399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80"/>
          <p:cNvSpPr/>
          <p:nvPr/>
        </p:nvSpPr>
        <p:spPr>
          <a:xfrm>
            <a:off x="2406600" y="306396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81"/>
          <p:cNvSpPr/>
          <p:nvPr/>
        </p:nvSpPr>
        <p:spPr>
          <a:xfrm>
            <a:off x="1255680" y="441648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82"/>
          <p:cNvSpPr/>
          <p:nvPr/>
        </p:nvSpPr>
        <p:spPr>
          <a:xfrm>
            <a:off x="2674800" y="4416480"/>
            <a:ext cx="398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50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2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503" name="椭圆 6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4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5" name="椭圆 9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6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7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9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0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11" name="文本框 2"/>
          <p:cNvSpPr/>
          <p:nvPr/>
        </p:nvSpPr>
        <p:spPr>
          <a:xfrm>
            <a:off x="5024520" y="4533840"/>
            <a:ext cx="2878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案不唯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32:3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